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D2242D-FF3D-4397-933C-CE6210DBC5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objetivo de esta sesión es ofrecer una vista y consejos prácticos a los participantes sobre cómo hacer uso completo de la reglas de la asistencia legal mutua de un modo más eficiente, en casos de ciberdelincuencia o en casos en los que sea preciso recoger pruebas electrónicas en otros países, permaneciendo en todo momento dentro de un marco de trabajo legal, internacional y nacional.</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DE319B-92E7-4EA5-9D43-D205D2FD05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presenta la transición entre los principios generales aplicados a la asistencia legal mutua general y las pruebas electrónicas buscadas entre los canales de cooperación judicial internacionales.</a:t>
            </a:r>
            <a:endParaRPr b="0" lang="en-US" sz="1200" spc="-1" strike="noStrike">
              <a:solidFill>
                <a:srgbClr val="000000"/>
              </a:solidFill>
              <a:latin typeface="Calibri"/>
            </a:endParaRPr>
          </a:p>
        </p:txBody>
      </p:sp>
      <p:sp>
        <p:nvSpPr>
          <p:cNvPr id="2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AE9A9F-05DF-42C2-9E3B-CB40DC20DC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7EFE56-72BA-47EC-9BAB-6596B86A29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13 a 17 ilustrarán la preparación eficiente de una solicitud de MLA, incluyend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cer uso del resto de los canales de cooperación, si lo permite la legislación nacional</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cer uso del Convenio de Budapest, cuando proced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robación de la información empleada para la redacción de la solicitud de MLA.</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5FFE95-1AC4-4238-A748-131B51D800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sta diapositiva pretende que los participantes piensan en otras posibilidades legales además de la solicitud de asistencia legal mutua cuando lo permita su legislación nacional, que no siempre es el caso. El instructor debe entonces poder ajustar las normativas y prácticas locales en dicho objeto. Es el momento de entablar una breve discusión con los participantes sobre lo que está o no  permitido por su legislación nacional. Los participantes a menudo deben llegar a la conclusión de que sus legislaciones nacionales no lo especifican todo, sino que podría no resultar concluyente que la prueba no fuese admisible en un tribunal.</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l instructor puede ofrecer ejemplos si tiene cualquier experiencia personal relativa a las tres categorías principales de información que pueden obtenerse legalmente sin una solicitud de MLA: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anales alternativos de cooperación</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nformación disponible públicamente</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l Artículo 32 del Convenio de Budapest (un recordatorio si es preciso, de la sesión de cooperación internacional)</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or ejemplo, podría mencionarse que, en algunos países como en Canadá, la policía es independiente de la autoridad judicial y que es su responsabilidad exclusiva decidir si comparten o no los informes policiales. En otros países, como en Francia, la policía siempre actúa bajo la supervisión de la autoridad judicial y, por lo tanto, casi siempre se exige consultar a la autoridad judicial (fiscal o juez).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ambién cabe mencionar, respecto a la información disponible públicamente, que en la mayoría de los países no es necesario poder recabar información de Google, mientras que los datos probablemente se almacenan en otro país.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tros ejemplos de información disponible públicamente puede ser el localizador "Find an inmate", disponible para la búsqueda de un recluso en las prisiones federales de EE.UU. (www.bop.gov/inmateloc), o los sitios web públicos que permiten comprobar un número IBAN y, por lo tanto, identificar el banco y su filial antes de redactar una solicitud de (www.ibancalculator.com)</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on respecto al Artículo 32 del Convenio de Budapest, los participantes deben contar ya con conocimientos de este tema adquiridos en sesiones anteriores. Sin embargo, el instructor debe intentar determinar si parece útil recordar a los participantes sus posibilidades legales de un modo práctico: ¿en qué situaciones lo permitiría la legislación nacional? ¿En qué situaciones no lo haría? ¿Por qué?</a:t>
            </a:r>
            <a:endParaRPr b="0" lang="en-US" sz="900" spc="-1" strike="noStrike">
              <a:solidFill>
                <a:srgbClr val="000000"/>
              </a:solidFill>
              <a:latin typeface="Calibri"/>
            </a:endParaRPr>
          </a:p>
        </p:txBody>
      </p:sp>
      <p:sp>
        <p:nvSpPr>
          <p:cNvPr id="2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905A2F-AD3C-4065-BBEB-C99F760EEF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uerda a los participantes sobre el uso de las herramientas y redes existentes para agilizar la asistencia legal mutua, que también puede resultar útil en la fase de redacción para obtener información sobre los requisitos específicos de un paí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mbién recuerda a los participantes el Artículo 29 del Convenio de Budapest que debe haberse estudiado en la sesión de cooperación internacional. Esta herramienta representa un requisito previo para lograr solicitudes de MLA más eficientes relativas a pruebas electrónicas.</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5A7203-1D66-4C35-8867-92896E3F9D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uerda a los asistentes dos artículos importantes del Convenio de Budapest que deben haberse analizado en el curso introductori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ículo 35 exige que cada Estado Parte organice un punto de contacto 24/7 con el propósito de establecer una red 24/7 capaz de responder a solicitudes urgentes. En algunos países, no en todos, la red 24/7 permitirá más o menos intercambio de información. La convención ofrece esta posibilidad. Sin embargo, no todos los países permiten la transmisión de información. Además, como este curso trata del uso de herramientas de asistencia legal mutua, esas "características extra" que no son comunes en todos los países, no se analizarán, aunque el instructor puede detallarlas si conoce las posibilidades ofrecidas por su punto de contacto nac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se centra en recordar a los asistentes sobre la posibilidad de emplear el Artículo 29 y solicitar la conservación rápida de los datos informáticos almacenados a través de la red 24/7, antes de enviar la solicitud de MLA. </a:t>
            </a:r>
            <a:endParaRPr b="0" lang="en-US" sz="1200" spc="-1" strike="noStrike">
              <a:solidFill>
                <a:srgbClr val="000000"/>
              </a:solidFill>
              <a:latin typeface="Calibri"/>
            </a:endParaRPr>
          </a:p>
        </p:txBody>
      </p:sp>
      <p:sp>
        <p:nvSpPr>
          <p:cNvPr id="2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817C06-3503-4D02-961D-C8E81714EC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y la siguiente explican cómo el Artículo 29 del Convenio de Budapest está vinculado a la asistencia legal mutua en práctica y por qué puede optimizar las posibilidades de ejecución de la solicitud de MLA.</a:t>
            </a:r>
            <a:endParaRPr b="0" lang="en-US" sz="1200" spc="-1" strike="noStrike">
              <a:solidFill>
                <a:srgbClr val="000000"/>
              </a:solidFill>
              <a:latin typeface="Calibri"/>
            </a:endParaRPr>
          </a:p>
        </p:txBody>
      </p:sp>
      <p:sp>
        <p:nvSpPr>
          <p:cNvPr id="2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0FAC0E-DEA6-49E2-BEB6-3FC2890016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y la anterior explican cómo el Artículo 29 del Convenio de Budapest está vinculado a la asistencia legal mutua en práctica y por qué puede optimizar las posibilidades de ejecución de la solicitud de MLA.</a:t>
            </a:r>
            <a:endParaRPr b="0" lang="en-US" sz="1200" spc="-1" strike="noStrike">
              <a:solidFill>
                <a:srgbClr val="000000"/>
              </a:solidFill>
              <a:latin typeface="Calibri"/>
            </a:endParaRPr>
          </a:p>
        </p:txBody>
      </p:sp>
      <p:sp>
        <p:nvSpPr>
          <p:cNvPr id="2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3F6D5E-5283-467C-A91C-B204B423F6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uerda a los participantes la información básica que deben comprobar al comenzar a redactar una solicitud de asistencia legal mutua. El instructor debe recordar a los participantes que la red descansa en dos punto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la forma de la solicitud (requisitos lega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el contenid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bos son igualmente importantes para que la solicitud llegue a la autoridad correcta y se ejecute.</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2B0C06-34A9-4FFB-85C9-D5F1BE8CA4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siste en la importancia de los requisitos de forma establecidos en un convenio/tratad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insistir en el hecho de que una vez comprobados estos requisitos previos, será prácticamente un proceso automático que exigirá menos tiempo mientras aumentan las posibilidades de lograr una mejor ejecución de la solicitud.</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078217-5901-46C9-A005-E455FB9704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imera parte de la presentación recordará a los participantes los principios básicos de la asistencia legal mu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segunda parte abordará cómo mejorar la preparación de una solicitud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ercera parte ofrecerá consejos para mejorar la redacción de solicitudes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cuarta parte se centrará en la recepción y ejecución de una solicitud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quinta parte resumirá los objetivos del curso.</a:t>
            </a: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ACD863-8844-45BA-82A5-725EB6F63F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6E8C47-7CAE-4197-862D-AC9D4AB6F4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19 a 44 se centrarán en la etapa de redacción de una solicitud de asistencia legal mutua, desde su forma y aspecto, hasta su contenido e información normalmente necesari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están dedicadas a la solicitud de MLA del modelo del Consejo de Europa. El instructor podría omitirlas por falta de tiempo. Sin embargo, podría ser útil para los participantes preguntarse cómo debería ser su solicitud de MLA. En países de le UE, para participantes interesados en el modelo de la UE, el instructor también puede decidir añadir un modelo de la Orden de investigación europea, disponible en el sitio web de la Red judicial europea junto con la directiva 2014/41/UE: http://eur-lex.europa.eu/legal-content/EN/TXT/HTML/?uri=CELEX:32014L0041&amp;from=EN ) </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79E4CE-4292-460E-A9F0-F1BDC59EDE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señala la ausencia de un modelo único y uniforme a nivel mundial para las solicitudes de MLA. Las siguientes diapositivas mostrarán a los participantes que sin embargo, parte de la información solicitada a menudo es la misma.</a:t>
            </a:r>
            <a:endParaRPr b="0" lang="en-US" sz="1200" spc="-1" strike="noStrike">
              <a:solidFill>
                <a:srgbClr val="000000"/>
              </a:solidFill>
              <a:latin typeface="Calibri"/>
            </a:endParaRPr>
          </a:p>
        </p:txBody>
      </p:sp>
      <p:sp>
        <p:nvSpPr>
          <p:cNvPr id="2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4F99A0-8527-43CA-A799-F45FA1E31E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enciona la nueva Orden de investigación europea a utilizar por toda la Unión Europea, excepto para JIT y Dinamarca e Irlanda (que optaron por salir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países de le UE, para participantes interesados en el modelo de la UE, encontrarán un modelo de la Orden de investigación europea, disponible en el sitio web de la Red judicial europea junto con la directiva 2014/41/UE: http://eur-lex.europa.eu/legal-content/EN/TXT/HTML/?uri=CELEX:32014L0041&amp;from=EN ) </a:t>
            </a:r>
            <a:endParaRPr b="0" lang="en-US" sz="1200" spc="-1" strike="noStrike">
              <a:solidFill>
                <a:srgbClr val="000000"/>
              </a:solidFill>
              <a:latin typeface="Calibri"/>
            </a:endParaRPr>
          </a:p>
        </p:txBody>
      </p:sp>
      <p:sp>
        <p:nvSpPr>
          <p:cNvPr id="2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9A8207-762F-4DCF-88C9-C7DC9E33EA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enciona la solicitud del modelo de MLA del Consejo de Europa, que representa una guía, no siendo obligatorio. Las siguientes diapositivas reproducirán la solicitud del modelo completo.</a:t>
            </a:r>
            <a:endParaRPr b="0" lang="en-US" sz="1200" spc="-1" strike="noStrike">
              <a:solidFill>
                <a:srgbClr val="000000"/>
              </a:solidFill>
              <a:latin typeface="Calibri"/>
            </a:endParaRPr>
          </a:p>
        </p:txBody>
      </p:sp>
      <p:sp>
        <p:nvSpPr>
          <p:cNvPr id="2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345CB6-BEF3-4F5C-A398-5283E386F2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pod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p:txBody>
      </p:sp>
      <p:sp>
        <p:nvSpPr>
          <p:cNvPr id="2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8E4C18-20D0-41BF-8EE9-219D1229AE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6178EE-AAA1-403B-B2C3-4B23E5E380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29640A-BAAD-4DD4-A064-D34C333E04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EF9A91-E7BC-4B80-A17A-2A6A0B9B60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os objetivos de la sesión a los participa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 término de esta sesión, los participantes podrá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pliar o recordar sus conocimientos sobre los principios generales relativos a la asistencia legal mutu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ar con conocimientos técnicos para mejorar la redacción de sus solicitudes de MLA y, por lo tanto, las posibilidades de su ejecució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optar una perspectiva más orientada a la eficiencia y a la cooperación entre autoridades judiciales.</a:t>
            </a:r>
            <a:endParaRPr b="0" lang="en-US" sz="1200" spc="-1" strike="noStrike">
              <a:solidFill>
                <a:srgbClr val="000000"/>
              </a:solidFill>
              <a:latin typeface="Calibri"/>
            </a:endParaRPr>
          </a:p>
        </p:txBody>
      </p:sp>
      <p:sp>
        <p:nvSpPr>
          <p:cNvPr id="2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7B938E-202E-4220-AD17-04FA717CAA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25063D-ED20-4763-8AA6-C017F708FB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F26C66-8CBE-46A7-B436-40454DA406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2A86C1-758D-4E32-A3A6-A85A2D4CAE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126EB1-5F4C-45CB-B26B-D8232A9B43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1F1F7E-2ACB-4C4D-912F-B2D3671D1E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1" lang="en-US" sz="1200" spc="-1" strike="noStrike">
                <a:solidFill>
                  <a:srgbClr val="000000"/>
                </a:solidFill>
                <a:latin typeface="Calibri"/>
              </a:rPr>
              <a:t>Esta diapositiva en concreto puede utilizarse para debatir sobre la necesidad de ser específico con respecto a las pruebas electróni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363FF3-1808-4A22-986E-F6B3241650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sta diapositiva en concreto puede utilizarse para debatir sobre la necesidad de ser específico con respecto a las pruebas electrónicas.  También ofrece una oportunidad para mencionar que la interceptación en tiempo real de las comunicaciones no se ejecutará por parte de EE.UU. solicitudes de asistencia legal mutua. La única posibilidad es que un caso de EE.UU. esté abierto y se utilice para obtener dicha autorización.</a:t>
            </a:r>
            <a:endParaRPr b="0" lang="en-US" sz="1200" spc="-1" strike="noStrike">
              <a:solidFill>
                <a:srgbClr val="000000"/>
              </a:solidFill>
              <a:latin typeface="Calibri"/>
            </a:endParaRPr>
          </a:p>
        </p:txBody>
      </p:sp>
      <p:sp>
        <p:nvSpPr>
          <p:cNvPr id="3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0ACE24-F85A-4013-A44F-C29B489389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9F0EB4-6273-4E1A-AC83-89062058A9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640A9C-2FF2-4B13-BE58-32BF54FC1C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E6D110-8713-4427-BD2A-4AD23EEED7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4 a 11 se centrarán en los principios generales en los que descansa la asistencia legal mutua.</a:t>
            </a:r>
            <a:br>
              <a:rPr sz="1200"/>
            </a:br>
            <a:br>
              <a:rPr sz="1200"/>
            </a:br>
            <a:r>
              <a:rPr b="0" lang="en-US" sz="1200" spc="-1" strike="noStrike">
                <a:solidFill>
                  <a:srgbClr val="000000"/>
                </a:solidFill>
                <a:latin typeface="Calibri"/>
              </a:rPr>
              <a:t>Estos principios, normalmente comunes en todos los países en cierta medida, son de extrema importancia a la hora de redactar o ejecutar una solicitud de asistencia legal mutua.</a:t>
            </a:r>
            <a:br>
              <a:rPr sz="1200"/>
            </a:br>
            <a:r>
              <a:rPr b="0" lang="en-US" sz="1200" spc="-1" strike="noStrike">
                <a:solidFill>
                  <a:srgbClr val="000000"/>
                </a:solidFill>
                <a:latin typeface="Calibri"/>
              </a:rPr>
              <a:t>El instructor debe comentar todos los temas reflejados en estas diapositivas y completarlos, en caso necesario, con consideraciones locales para que los participantes tengan presentes estos principios a la hora de participar en la sesión de redacción de MLA.</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30560B-54DA-48F0-B9AB-67A416AA7A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nque los tratados y convenciones pueden diferir bajo los distintos requisitos de contenido de una solicitud de MLA, la mayor parte de los mismos y la mayoría de los Estados que ejecutan solicitudes en base a la reciprocidad (es decir, fuera del marco de trabajo de una convención o tratado), exigen los elementos anteriormente mencionados. </a:t>
            </a:r>
            <a:endParaRPr b="0" lang="en-US" sz="1200" spc="-1" strike="noStrike">
              <a:solidFill>
                <a:srgbClr val="000000"/>
              </a:solidFill>
              <a:latin typeface="Calibri"/>
            </a:endParaRPr>
          </a:p>
        </p:txBody>
      </p:sp>
      <p:sp>
        <p:nvSpPr>
          <p:cNvPr id="3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A35AFA-A7C7-4863-9249-8678B890BF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sustituir el Convenio de Budapest en el debate recordando a los participantes que es un instrumento internacional que proporciona un capítulo aplicable completo sobre las normas de MLA a seguir en ausencia de otros tratados.</a:t>
            </a:r>
            <a:endParaRPr b="0" lang="en-US" sz="1200" spc="-1" strike="noStrike">
              <a:solidFill>
                <a:srgbClr val="000000"/>
              </a:solidFill>
              <a:latin typeface="Calibri"/>
            </a:endParaRPr>
          </a:p>
        </p:txBody>
      </p:sp>
      <p:sp>
        <p:nvSpPr>
          <p:cNvPr id="3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3B4EB9-B2D0-4D61-8A91-B4D6C1FDEF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insistir en el papel de la comunicación a la hora de agilizar la solicitud de asistencia legal mutua, recalcando, cuando proceda, el hecho de que no elude los canales legales, solo tiende a facilitar la comprensión y ejecución de la solicitud enviada o que se enviará a través de los canales oficial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Muchas solicitudes en la práctica judicial no dispondrán de dirección de correo electrónico o información sobre los idiomas que habla al autoridad solicitante.</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6985E0-9AD7-43EB-AA2A-F819D49A39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siste en la importancia del resumen de los hechos, solicitado por la mayoría de los tratados y convenciones internaciona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una de las partes más importantes de la solicitud, ya que determinará si pueden ordenarse una medida de investigación en el país solicitado. Estos consejos parecen sencillos, pero en la práctica, es muy obvio que los jueces y fiscales deben emplear más tiempo en el resumen de los hechos teniendo presente estos simples consejos, comenzando por el hecho de que solo ELLOS conocen su caso en detalle, no la autoridad solicitada, que a menudo solo tiene la solicitud de MLA para realizar su propia determinación leg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insistir en la necesidad de emplear tiempo en el resumen de los hechos, que deberá ser específico y cumplir con los posibles estándares sobre pruebas establecidas en ciertos Estados en cuanto a medidas coactivas, por ejemplo. </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8557E4-9949-48AF-948E-3F81A51CDD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siguientes dos diapositivas contienen un ejemplo de requisitos específicos al redactar el resumen de hechos: el estándar de causa probable exigido por EE. UU. distintivamente cuando se busca contenido de correos electrónicos. </a:t>
            </a: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360751-028C-4CA0-8623-1A2EA57C6C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0187AF67-132B-4B33-9853-0E559C01B0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37DC6A68-EA9F-475D-A955-3DA04B31BA57}" type="slidenum">
              <a:rPr b="0" lang="en-US" sz="1200" spc="-1" strike="noStrike">
                <a:solidFill>
                  <a:srgbClr val="000000"/>
                </a:solidFill>
                <a:latin typeface="Calibri"/>
                <a:ea typeface="Arial Unicode MS"/>
              </a:rPr>
              <a:t>&lt;number&gt;</a:t>
            </a:fld>
            <a:endParaRPr b="0" lang="en-US" sz="1200" spc="-1" strike="noStrike">
              <a:solidFill>
                <a:srgbClr val="000000"/>
              </a:solidFill>
              <a:latin typeface="Arial"/>
            </a:endParaRPr>
          </a:p>
        </p:txBody>
      </p:sp>
      <p:sp>
        <p:nvSpPr>
          <p:cNvPr id="35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2" name="PlaceHolder 1"/>
          <p:cNvSpPr>
            <a:spLocks noGrp="1"/>
          </p:cNvSpPr>
          <p:nvPr>
            <p:ph type="body"/>
          </p:nvPr>
        </p:nvSpPr>
        <p:spPr>
          <a:xfrm>
            <a:off x="685800" y="4343400"/>
            <a:ext cx="5484960" cy="4208400"/>
          </a:xfrm>
          <a:prstGeom prst="rect">
            <a:avLst/>
          </a:prstGeom>
          <a:noFill/>
          <a:ln w="0">
            <a:noFill/>
          </a:ln>
        </p:spPr>
        <p:txBody>
          <a:bodyPr anchor="ctr" anchorCtr="1">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sta diapositiva resume los tres estándares legales diferentes requeridos en EE.UU. al buscar datos electrónico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l instructor puede añadir esto a su diapositiva si está familiarizado con el sistema de EE.UU. o con otro ejemplo de un país diferente, cuando sea posib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in embargo, dicha presentación debe limitarse a una descripción objetiva de los requisitos de un país en el contexto de las reglas generales de asistencia legal mutua y de los tratados y convenciones relevantes, ya que algunos países podrían contar con requisitos que evadiesen de hecho las normas tradicionales de los tratados o la asistencia legal mutua. Lo último no es objeto de estudio de esta sesión. </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el tipo de medidas buscadas y las posibilidades legales para su ejecución.</a:t>
            </a:r>
            <a:endParaRPr b="0" lang="en-US" sz="1200" spc="-1" strike="noStrike">
              <a:solidFill>
                <a:srgbClr val="000000"/>
              </a:solidFill>
              <a:latin typeface="Calibri"/>
            </a:endParaRPr>
          </a:p>
        </p:txBody>
      </p:sp>
      <p:sp>
        <p:nvSpPr>
          <p:cNvPr id="3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1E0B7E-7E21-4686-A402-5ED4257215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os documentos que pueden y deben adjuntarse a la solicitud de MLA, sujeto a otros requisitos establecidos por los tratados o convenciones.</a:t>
            </a:r>
            <a:br>
              <a:rPr sz="1200"/>
            </a:br>
            <a:br>
              <a:rPr sz="1200"/>
            </a:br>
            <a:r>
              <a:rPr b="0" lang="en-US" sz="1200" spc="-1" strike="noStrike">
                <a:solidFill>
                  <a:srgbClr val="000000"/>
                </a:solidFill>
                <a:latin typeface="Calibri"/>
              </a:rPr>
              <a:t>El instructor debe enriquecer esta diapositiva con cualquier requisito relevante concreto para su área geográfica.</a:t>
            </a:r>
            <a:endParaRPr b="0" lang="en-US" sz="1200" spc="-1" strike="noStrike">
              <a:solidFill>
                <a:srgbClr val="000000"/>
              </a:solidFill>
              <a:latin typeface="Calibri"/>
            </a:endParaRPr>
          </a:p>
        </p:txBody>
      </p:sp>
      <p:sp>
        <p:nvSpPr>
          <p:cNvPr id="3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F18FEF-6BB5-44B9-B07C-3B69C6C77F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enciona la posibilidad de enviar una copia anticipada de la solicitud oficial por cualquier medio al país solicitad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insistir en el hecho de que esta práctica también puede utilizarse cuando hay autoridades centrales implicadas en el proceso de transmisión y que, al enviar la copia a través del circuito oficial, según las solicitudes del convenio o tratado, su ejecución puede comenzar a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mencionar que si se envía directamente una copia anticipada a una autoridad extranjera, pero el tratado correspondiente no lo permite, dependiendo del país solicitado, podría no ejecutarse. La copia anticipada debe, por lo tanto, seguir los canales de transmisión establecidos por el tratado o convención correspondiente para obtener mejores resultad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El instructor puede mencionar esta posibilidad según lo establecido en el Artículo 25.3 del Convenio de Budapest, descrito en la siguiente diapositiva.</a:t>
            </a:r>
            <a:endParaRPr b="0" lang="en-US" sz="1200" spc="-1" strike="noStrike">
              <a:solidFill>
                <a:srgbClr val="000000"/>
              </a:solidFill>
              <a:latin typeface="Calibri"/>
            </a:endParaRPr>
          </a:p>
        </p:txBody>
      </p:sp>
      <p:sp>
        <p:nvSpPr>
          <p:cNvPr id="3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CD4273-8784-494B-953B-F3AD11885F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produce el Artículo 25. 3 del Convenio de Budapest relativos al uso de medios de telecomunicación para la transmisión de solicitudes de MLA de modo más eficiente, en casos que requieran pruebas electrónicas y cuando puedan invocarse circunstancias de urgencia.</a:t>
            </a: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97A97E-D200-4E7A-9145-CFAB5F7DA5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FCF17B-D737-416F-A1F5-46BD0BE145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cuarta parte aborda la recepción y ejecución de una solicitud de MLA de forma práctica. Esta parte es breve, ya que no es posible describir cada posibilidad legal que depende del tratado o convención aplicable, así como el tipo de medida solicitada. En esta parte solo está orientada a ofrecer consejo a los participantes, para que adopten una perspectiva más enfocada a una cooperación eficiente, en lugar de tan solo a una estrategia legal, no abandonando los límites de su legislación nacional ni internaciona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4E6EC4-9D8B-4537-8A2C-4AFEF4B84E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uerda a los participantes la importancia de la comunicación ya explicada en la parte relativa a la redacción de solicitudes de MLA.</a:t>
            </a:r>
            <a:br>
              <a:rPr sz="1200"/>
            </a:br>
            <a:r>
              <a:rPr b="0" lang="en-US" sz="1200" spc="-1" strike="noStrike">
                <a:solidFill>
                  <a:srgbClr val="000000"/>
                </a:solidFill>
                <a:latin typeface="Calibri"/>
              </a:rPr>
              <a:t>La comunicación es también importante por parte del recepto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cluso cuando no lo exija la ley, debe fomentarse entre los participantes la comunicación informal con la autoridad solicitante para hacerle saber que se ejecutará la MLA. Esto es importante cuando un caso criminal está en curso en el Estado solicitante, ya que la autoridad solicitante puede no tener noticias de su solicitud durante meses o incluso años, y puede decidir en algún momento cerrar el caso, mientras que la autoridad requerida puede ser ejecutar la solicitud, o puede haber estado en la obligación de posponer la ejecución de la solicitu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insistir, cuando sea necesario, en el hecho de que esta comunicación está destinada a agilizar y mejorar la comprensión de la solicitud y no a eludir los canales oficiales de la transmisión. </a:t>
            </a: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350788-1F89-4671-A556-D73F94A5FE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dica la existencia de dos niveles de análisis que el receptor debe tratar de reconcili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álisis legal (forma de la solicitud, contenido de la solicitu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álisis eficiente (si no se puede ordenar una medida, ¿permite la legislación nacional otros medios legales de alcanzar el mismo objetivo?)</a:t>
            </a: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323979-F581-484F-BD21-E6E418C2AC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consejos sencillos a los participantes para mejorar la estrategia de eficiencia dentro de su marco de trabajo legal. </a:t>
            </a: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9D063B-2048-4572-8946-B4DE1C035D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reproducen parte del Artículo 27 del Convenio de Budapest que pueda convertirse en una base legal para la MLA en ausencia de otros tratados o convenciones aplicables.</a:t>
            </a:r>
            <a:endParaRPr b="0" lang="en-US"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C55353-BCC3-45F5-9B28-4CB1732371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reproducen parte del Artículo 27 del Convenio de Budapest que pueda convertirse en una base legal para la MLA en ausencia de otros tratados o convenciones aplicables.</a:t>
            </a:r>
            <a:endParaRPr b="0" lang="en-US"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73F50B-744F-4859-A7FE-EB99FA1A5B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recordar a los participantes sobre las estipulaciones principales de su legislación nacional que regulan la ejecución de solicitudes de MLA extranjeras, cuando proceda, o resuma los principios principales. </a:t>
            </a:r>
            <a:endParaRPr b="0" lang="en-US" sz="1200" spc="-1" strike="noStrike">
              <a:solidFill>
                <a:srgbClr val="000000"/>
              </a:solidFill>
              <a:latin typeface="Calibri"/>
            </a:endParaRPr>
          </a:p>
        </p:txBody>
      </p:sp>
      <p:sp>
        <p:nvSpPr>
          <p:cNvPr id="3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8A5A7B-7D92-409E-9678-9E601F9D46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recordar a los participantes sobre las estipulaciones principales de su legislación nacional que regulan la ejecución de solicitudes de MLA extranjeras, cuando proceda, o resuma los principios principales. </a:t>
            </a:r>
            <a:endParaRPr b="0" lang="en-US" sz="1200" spc="-1" strike="noStrike">
              <a:solidFill>
                <a:srgbClr val="000000"/>
              </a:solidFill>
              <a:latin typeface="Calibri"/>
            </a:endParaRPr>
          </a:p>
        </p:txBody>
      </p:sp>
      <p:sp>
        <p:nvSpPr>
          <p:cNvPr id="3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E64CCD-386A-40E2-9A73-7C9F5217AD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recordar a los participantes sobre las estipulaciones principales de su legislación nacional que regulan la ejecución de solicitudes de MLA extranjeras, cuando proceda, o resuma los principios principales. </a:t>
            </a:r>
            <a:endParaRPr b="0" lang="en-US" sz="1200" spc="-1" strike="noStrike">
              <a:solidFill>
                <a:srgbClr val="000000"/>
              </a:solidFill>
              <a:latin typeface="Calibri"/>
            </a:endParaRPr>
          </a:p>
        </p:txBody>
      </p:sp>
      <p:sp>
        <p:nvSpPr>
          <p:cNvPr id="3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1F2E2E-E91E-49BE-A706-F677C0EAA5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fleja las ideas comunes principales que trata la asistencia legal mutua y en el que descansan las convencion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puede ilustrar dando ejemplos de su sistema nacional o de un caso local que pueda suscitar cuestiones legales</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7FAD5D-4323-4D07-AAD5-8184DA8840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os objetivos principales de la sesió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 término de la sesión, todos los participantes deberán haber alcanzado los siguientes objetivo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pliar o recordar sus conocimientos sobre los principios generales relativos a la asistencia legal mutu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ar con conocimientos técnicos para mejorar la redacción de sus solicitudes de MLA y, por lo tanto, las posibilidades de su ejecució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optar una perspectiva más orientada a la eficiencia y a la cooperación entre autoridades judiciales.</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4DC37E-2FD3-4D0F-A96D-27415EDE2DA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dar a los participantes la oportunidad de realizar cualquier pregunta que puedan tener relativa a la le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jercicios práctic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ciertas sesiones de formación , puede orientarse una sesión a la aplicación de esta presentación y a la redacción o análisis real de una solicitud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el futuro, los instructores pueden intentar complementar la formación añadiendo ejercicios, cuando la formación se imparta en un entorno en el que las instalaciones sean adecuad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probación de conocimi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curso no considera actualmente la comprobación de conocimientos específicos además de los arriba indicados. No se ha solicitado evaluación oficial.</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A30C01-18F5-422B-AF2C-54894B55909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supone un recordatorio rápido de los problemas que representa la ciberdelincuencia y las pruebas electrónicas en casos internacionales. En esta etapa del programa, los participantes deben conocer estos problemas a fondo gracias al curso introductorio o al curso avanzado de formación judicial (presentaciones generales).</a:t>
            </a:r>
            <a:endParaRPr b="0" lang="en-US" sz="1200" spc="-1" strike="noStrike">
              <a:solidFill>
                <a:srgbClr val="000000"/>
              </a:solidFill>
              <a:latin typeface="Calibri"/>
            </a:endParaRPr>
          </a:p>
        </p:txBody>
      </p:sp>
      <p:sp>
        <p:nvSpPr>
          <p:cNvPr id="2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CF32EE-9212-4B75-9CFF-4D4436C592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dica algunas de las diferencias principales entre un caso de la "vida real" tradicional y un caso con pruebas digitales en la detección de un delito y en la recogida de prueba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puede ilustrar dando ejemplos prácticos como, por ejemplo:</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rar la situación de un robo a un banco (tiempo de preparación, tiempo para acudir a la escena del crimen, tiempo para entrar en el banco, tiempo para coger el dinero, tiempo para huir, ADN o huellas digitales dejadas en la escena, sangre (en ocasiones), víctimas que sabían que estaban siendo víctimas de un delito, traumas, oficiales de policía y expertos que saben dónde ir a recoger las pruebas, etc., comparado con enterarse de que han sido víctimas de una enorme filtración de datos en un periodo de tiempo no identificado, etc.)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también debe insistir en el hecho de que la territorialidad es un asunto que supone un reto cada vez mayor en la ciberdelincuencia, al contrario en los delitos básicos, que a menudo se ubican fácilmente dentro de una jurisdicción. Sin embargo, como esta lección trata de la asistencia legal mutua, que descansa principalmente en leyes internacionales (convenciones y tratados), también debe recordarse a los estudiantes que jueces y magistrados deben cumplir con la ley y, a continuación, ser más creativos dentro de los límites de la legislación (en otras palabras: respetar la ley pero intentar analizarla de un modo más específico cuando se trata de nuevas prácticas relativas a la recogida de pruebas electrónicas).</a:t>
            </a:r>
            <a:endParaRPr b="0" lang="en-US" sz="1200" spc="-1" strike="noStrike">
              <a:solidFill>
                <a:srgbClr val="000000"/>
              </a:solidFill>
              <a:latin typeface="Calibri"/>
            </a:endParaRPr>
          </a:p>
        </p:txBody>
      </p:sp>
      <p:sp>
        <p:nvSpPr>
          <p:cNvPr id="2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3A8A62-B779-4113-AFC2-FA516B3F58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s un resumen del dilema actual reflejado en las diapositivas 7 y 8: la necesidad de respetar las leyes internacionales frente a la de ser más eficiente contra la ciberdelincuencia.</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C1F056-2B73-40A3-81F4-2957EDC076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FBE48-65BD-4C6B-8476-E224215B8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86B97-C10A-45B9-8064-AF5A99A5D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C1582-2FCC-4C5B-A48E-1DB04E52D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F7C17-D2F2-414F-912A-0556AAA507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42678-4950-4F1F-80F5-F45802FA6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8ABDF-6554-463C-940A-10EE58F6C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AADB1-549A-4293-A772-17CE76473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B9267-D612-499E-8E16-A84A4E56C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F6A6A-395C-4469-AB19-C0D97562E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A15E0-1CB9-40A4-90EB-50FB1CC88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CB6DF-BC96-421D-97A8-4588EDFC9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323E2-1BBD-4E5D-9A56-214940B9B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06D270-E3A9-45A1-9EFA-4D36A3F255DD}"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AD5FE6-89A5-4A53-872B-5E0CCF5357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oe.int/en/web/conventions/full-list/-/conventions/treaty/185/declarations?p_auth=r6eUYhF4"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oe.int/en/web/conventions/full-list/-/conventions/treaty/185"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olicitudes de asistencia legal mutua (MLA)</a:t>
            </a:r>
            <a:br>
              <a:rPr sz="4400"/>
            </a:br>
            <a:r>
              <a:rPr b="0" lang="en-US" sz="4400" spc="-1" strike="noStrike">
                <a:solidFill>
                  <a:srgbClr val="000000"/>
                </a:solidFill>
                <a:latin typeface="Calibri"/>
              </a:rPr>
              <a:t>Cuestiones práctica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a6a6"/>
                </a:solidFill>
                <a:latin typeface="Calibri"/>
              </a:rPr>
              <a:t>2.3.2</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
        <p:nvSpPr>
          <p:cNvPr id="5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BA04BF2-39EA-41D2-95E1-67F26D85CE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00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ituación actual:</a:t>
            </a:r>
            <a:endParaRPr b="0" lang="en-US" sz="4400" spc="-1" strike="noStrike">
              <a:solidFill>
                <a:srgbClr val="000000"/>
              </a:solidFill>
              <a:latin typeface="Calibri"/>
            </a:endParaRPr>
          </a:p>
        </p:txBody>
      </p:sp>
      <p:sp>
        <p:nvSpPr>
          <p:cNvPr id="77" name=""/>
          <p:cNvSpPr txBox="1"/>
          <p:nvPr/>
        </p:nvSpPr>
        <p:spPr>
          <a:xfrm>
            <a:off x="456840" y="1282320"/>
            <a:ext cx="8348760" cy="4708440"/>
          </a:xfrm>
          <a:prstGeom prst="rect">
            <a:avLst/>
          </a:prstGeom>
          <a:noFill/>
          <a:ln w="0">
            <a:noFill/>
          </a:ln>
        </p:spPr>
        <p:txBody>
          <a:bodyPr anchor="t">
            <a:normAutofit fontScale="87000"/>
          </a:bodyPr>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s canales de MLA ya no son adecuados en lo relativo a pruebas electrónicas</a:t>
            </a:r>
            <a:endParaRPr b="0" lang="en-US" sz="2400" spc="-1" strike="noStrike">
              <a:solidFill>
                <a:srgbClr val="000000"/>
              </a:solidFill>
              <a:latin typeface="Calibri"/>
            </a:endParaRPr>
          </a:p>
          <a:p>
            <a:pPr marL="298440" indent="-2984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ebemos encontrar nuevos modos de cooperación con respecto a las pruebas electrónicas y a la ciberdelincuencia</a:t>
            </a:r>
            <a:endParaRPr b="0" lang="en-US" sz="2400" spc="-1" strike="noStrike">
              <a:solidFill>
                <a:srgbClr val="000000"/>
              </a:solidFill>
              <a:latin typeface="Calibri"/>
            </a:endParaRPr>
          </a:p>
          <a:p>
            <a:pPr marL="298440" indent="-29844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ff0000"/>
                </a:solidFill>
                <a:uFillTx/>
                <a:latin typeface="Calibri"/>
              </a:rPr>
              <a:t>No obstante:</a:t>
            </a:r>
            <a:endParaRPr b="0" lang="en-US" sz="2400" spc="-1" strike="noStrike">
              <a:solidFill>
                <a:srgbClr val="000000"/>
              </a:solidFill>
              <a:latin typeface="Calibri"/>
            </a:endParaRPr>
          </a:p>
          <a:p>
            <a:pPr marL="298440" indent="-2984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La MLA continúa siendo el canal internacional de cooperación aceptado legalmente </a:t>
            </a:r>
            <a:endParaRPr b="0" lang="en-US" sz="2400" spc="-1" strike="noStrike">
              <a:solidFill>
                <a:srgbClr val="000000"/>
              </a:solidFill>
              <a:latin typeface="Calibri"/>
            </a:endParaRPr>
          </a:p>
          <a:p>
            <a:pPr marL="298440" indent="-2984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s encargados de ponerla en práctica deben, por lo tanto, hacer un uso mejor y completo de las posibilidades de la MLA para mejorar sus resultados</a:t>
            </a:r>
            <a:endParaRPr b="0" lang="en-US" sz="2400" spc="-1" strike="noStrike">
              <a:solidFill>
                <a:srgbClr val="000000"/>
              </a:solidFill>
              <a:latin typeface="Calibri"/>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4D4BBF-2981-4C94-BE1A-F6ED221143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0"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reguntas</a:t>
            </a:r>
            <a:endParaRPr b="0" lang="en-US" sz="54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757066-AD54-4326-8E9C-EBCAB4BAB6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MS PGothic"/>
              </a:rPr>
              <a:t>Segunda parte</a:t>
            </a:r>
            <a:br>
              <a:rPr sz="3200"/>
            </a:br>
            <a:r>
              <a:rPr b="1" lang="en-US" sz="3200" spc="-1" strike="noStrike">
                <a:solidFill>
                  <a:srgbClr val="000000"/>
                </a:solidFill>
                <a:latin typeface="Calibri"/>
                <a:ea typeface="MS PGothic"/>
              </a:rPr>
              <a:t>Preparativos de la solicitud de MLA</a:t>
            </a:r>
            <a:endParaRPr b="0" lang="en-US" sz="3200" spc="-1" strike="noStrike">
              <a:solidFill>
                <a:srgbClr val="000000"/>
              </a:solidFill>
              <a:latin typeface="Calibri"/>
            </a:endParaRPr>
          </a:p>
        </p:txBody>
      </p:sp>
      <p:pic>
        <p:nvPicPr>
          <p:cNvPr id="83" name="Picture 3" descr=""/>
          <p:cNvPicPr/>
          <p:nvPr/>
        </p:nvPicPr>
        <p:blipFill>
          <a:blip r:embed="rId1"/>
          <a:stretch/>
        </p:blipFill>
        <p:spPr>
          <a:xfrm>
            <a:off x="6786720" y="4643280"/>
            <a:ext cx="1962000" cy="1766880"/>
          </a:xfrm>
          <a:prstGeom prst="rect">
            <a:avLst/>
          </a:prstGeom>
          <a:ln w="0">
            <a:noFill/>
          </a:ln>
        </p:spPr>
      </p:pic>
      <p:sp>
        <p:nvSpPr>
          <p:cNvPr id="84"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458EC4B-EF9F-4E45-A88C-F0CD61D238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ntes de enviar una solicitud de MLA, deben comprobarse estas alternativas legales:</a:t>
            </a:r>
            <a:endParaRPr b="0" lang="en-US" sz="3600" spc="-1" strike="noStrike">
              <a:solidFill>
                <a:srgbClr val="000000"/>
              </a:solidFill>
              <a:latin typeface="Calibri"/>
            </a:endParaRPr>
          </a:p>
        </p:txBody>
      </p:sp>
      <p:sp>
        <p:nvSpPr>
          <p:cNvPr id="86" name=""/>
          <p:cNvSpPr txBox="1"/>
          <p:nvPr/>
        </p:nvSpPr>
        <p:spPr>
          <a:xfrm>
            <a:off x="457200" y="1874880"/>
            <a:ext cx="8229600" cy="4525920"/>
          </a:xfrm>
          <a:prstGeom prst="rect">
            <a:avLst/>
          </a:prstGeom>
          <a:noFill/>
          <a:ln w="0">
            <a:noFill/>
          </a:ln>
        </p:spPr>
        <p:txBody>
          <a:bodyPr anchor="t">
            <a:normAutofit fontScale="94000"/>
          </a:bodyPr>
          <a:p>
            <a:pPr marL="322200" indent="-32220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1" lang="en-US" sz="2700" spc="-1" strike="noStrike">
                <a:solidFill>
                  <a:srgbClr val="000000"/>
                </a:solidFill>
                <a:latin typeface="Calibri"/>
              </a:rPr>
              <a:t>Canales alternativos de cooperación </a:t>
            </a:r>
            <a:r>
              <a:rPr b="0" lang="en-US" sz="2700" spc="-1" strike="noStrike">
                <a:solidFill>
                  <a:srgbClr val="000000"/>
                </a:solidFill>
                <a:latin typeface="Calibri"/>
              </a:rPr>
              <a:t>(por ejemplo, cooperación entre cuerpos policiales): </a:t>
            </a:r>
            <a:endParaRPr b="0" lang="en-US" sz="2700" spc="-1" strike="noStrike">
              <a:solidFill>
                <a:srgbClr val="000000"/>
              </a:solidFill>
              <a:latin typeface="Calibri"/>
            </a:endParaRPr>
          </a:p>
          <a:p>
            <a:pPr marL="322200" indent="-322200" algn="ct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t>
            </a:r>
            <a:r>
              <a:rPr b="0" i="1" lang="en-US" sz="2700" spc="-1" strike="noStrike">
                <a:solidFill>
                  <a:srgbClr val="000000"/>
                </a:solidFill>
                <a:latin typeface="Calibri"/>
              </a:rPr>
              <a:t>Lo autoriza la legislación nacional? ¿Lo autoriza la legislación del país solicitado?</a:t>
            </a:r>
            <a:endParaRPr b="0" lang="en-US" sz="2700" spc="-1" strike="noStrike">
              <a:solidFill>
                <a:srgbClr val="000000"/>
              </a:solidFill>
              <a:latin typeface="Calibri"/>
            </a:endParaRPr>
          </a:p>
          <a:p>
            <a:pPr marL="322200" indent="-32220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22200" indent="-32220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1" lang="en-US" sz="2700" spc="-1" strike="noStrike">
                <a:solidFill>
                  <a:srgbClr val="000000"/>
                </a:solidFill>
                <a:latin typeface="Calibri"/>
              </a:rPr>
              <a:t>Información disponible públicamente </a:t>
            </a:r>
            <a:r>
              <a:rPr b="0" lang="en-US" sz="2700" spc="-1" strike="noStrike">
                <a:solidFill>
                  <a:srgbClr val="000000"/>
                </a:solidFill>
                <a:latin typeface="Calibri"/>
              </a:rPr>
              <a:t>que puede obtenerse sin solicitud de MLA a través de Internet o de bases de datos específicas disponibles gratuitas o de pago (</a:t>
            </a:r>
            <a:r>
              <a:rPr b="0" i="1" lang="en-US" sz="2700" spc="-1" strike="noStrike">
                <a:solidFill>
                  <a:srgbClr val="000000"/>
                </a:solidFill>
                <a:latin typeface="Calibri"/>
              </a:rPr>
              <a:t>si lo permite la legislación nacional)</a:t>
            </a:r>
            <a:endParaRPr b="0" lang="en-US" sz="2700" spc="-1" strike="noStrike">
              <a:solidFill>
                <a:srgbClr val="000000"/>
              </a:solidFill>
              <a:latin typeface="Calibri"/>
            </a:endParaRPr>
          </a:p>
          <a:p>
            <a:pPr marL="322200" indent="-32220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22200" indent="-32220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RT. 32 a) del Convenio de Budapest </a:t>
            </a:r>
            <a:r>
              <a:rPr b="0" lang="en-US" sz="2700" spc="-1" strike="noStrike">
                <a:solidFill>
                  <a:srgbClr val="000000"/>
                </a:solidFill>
                <a:latin typeface="Calibri"/>
              </a:rPr>
              <a:t>: acceso transfronterizo a datos informáticos almacenados con consentimiento </a:t>
            </a:r>
            <a:endParaRPr b="0" lang="en-US" sz="27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D42D73D-8A22-4C2A-80DB-379E15A7C7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04640" y="7282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reparación eficiente de una solicitud de MLA relativa a la obtención de pruebas electrónicas</a:t>
            </a:r>
            <a:endParaRPr b="0" lang="en-US" sz="3600" spc="-1" strike="noStrike">
              <a:solidFill>
                <a:srgbClr val="000000"/>
              </a:solidFill>
              <a:latin typeface="Calibri"/>
            </a:endParaRPr>
          </a:p>
        </p:txBody>
      </p:sp>
      <p:sp>
        <p:nvSpPr>
          <p:cNvPr id="89" name=""/>
          <p:cNvSpPr txBox="1"/>
          <p:nvPr/>
        </p:nvSpPr>
        <p:spPr>
          <a:xfrm>
            <a:off x="212400" y="2788920"/>
            <a:ext cx="8612280" cy="329076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o de las redes existentes, magistrados de enlace/agregados jurídicos, autoridad central nacional (asesoramiento), Interpol, Europol, contactos directos, redes judiciales...</a:t>
            </a:r>
            <a:endParaRPr b="0" lang="en-US" sz="2800" spc="-1" strike="noStrike">
              <a:solidFill>
                <a:srgbClr val="000000"/>
              </a:solidFill>
              <a:latin typeface="Calibri"/>
            </a:endParaRPr>
          </a:p>
          <a:p>
            <a:pPr marL="332640" indent="-3326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o del ART. 29 del Convenio de Budapest </a:t>
            </a:r>
            <a:r>
              <a:rPr b="0" lang="en-US" sz="2800" spc="-1" strike="noStrike">
                <a:solidFill>
                  <a:srgbClr val="000000"/>
                </a:solidFill>
                <a:latin typeface="Calibri"/>
              </a:rPr>
              <a:t>(conservación rápida de los datos informáticos almacenados)</a:t>
            </a:r>
            <a:endParaRPr b="0" lang="en-US" sz="2800" spc="-1" strike="noStrike">
              <a:solidFill>
                <a:srgbClr val="000000"/>
              </a:solidFill>
              <a:latin typeface="Calibri"/>
            </a:endParaRPr>
          </a:p>
        </p:txBody>
      </p:sp>
      <p:sp>
        <p:nvSpPr>
          <p:cNvPr id="9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BCBF45E-BAC3-46BD-A360-C309256FF1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VISO: </a:t>
            </a:r>
            <a:endParaRPr b="0" lang="en-US" sz="4400" spc="-1" strike="noStrike">
              <a:solidFill>
                <a:srgbClr val="000000"/>
              </a:solidFill>
              <a:latin typeface="Calibri"/>
            </a:endParaRPr>
          </a:p>
        </p:txBody>
      </p:sp>
      <p:graphicFrame>
        <p:nvGraphicFramePr>
          <p:cNvPr id="92" name=""/>
          <p:cNvGraphicFramePr/>
          <p:nvPr/>
        </p:nvGraphicFramePr>
        <p:xfrm>
          <a:off x="457200" y="1254240"/>
          <a:ext cx="8229600" cy="5468760"/>
        </p:xfrm>
        <a:graphic>
          <a:graphicData uri="http://schemas.openxmlformats.org/drawingml/2006/table">
            <a:tbl>
              <a:tblPr/>
              <a:tblGrid>
                <a:gridCol w="4114800"/>
                <a:gridCol w="4114800"/>
              </a:tblGrid>
              <a:tr h="582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ARTÍCULO 35 del Convenio de Budape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ARTÍCULO 29 del Convenio de Budape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886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ículo 35 – Red 24/7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 </a:t>
                      </a:r>
                      <a:r>
                        <a:rPr b="1" lang="en-US" sz="1100" spc="-1" strike="noStrike">
                          <a:solidFill>
                            <a:srgbClr val="000000"/>
                          </a:solidFill>
                          <a:latin typeface="Calibri"/>
                        </a:rPr>
                        <a:t>Cada parte </a:t>
                      </a:r>
                      <a:r>
                        <a:rPr b="1" lang="en-US" sz="1100" spc="-1" strike="noStrike" u="sng">
                          <a:solidFill>
                            <a:srgbClr val="000000"/>
                          </a:solidFill>
                          <a:uFillTx/>
                          <a:latin typeface="Calibri"/>
                        </a:rPr>
                        <a:t>designará</a:t>
                      </a:r>
                      <a:r>
                        <a:rPr b="1" lang="en-US" sz="1100" spc="-1" strike="noStrike">
                          <a:solidFill>
                            <a:srgbClr val="000000"/>
                          </a:solidFill>
                          <a:latin typeface="Calibri"/>
                        </a:rPr>
                        <a:t> un punto de contacto disponible a una hora de un día de la semana</a:t>
                      </a:r>
                      <a:r>
                        <a:rPr b="0" lang="en-US" sz="1100" spc="-1" strike="noStrike">
                          <a:solidFill>
                            <a:srgbClr val="000000"/>
                          </a:solidFill>
                          <a:latin typeface="Calibri"/>
                        </a:rPr>
                        <a:t>, para asegurar la </a:t>
                      </a:r>
                      <a:r>
                        <a:rPr b="1" lang="en-US" sz="1100" spc="-1" strike="noStrike" u="sng">
                          <a:solidFill>
                            <a:srgbClr val="000000"/>
                          </a:solidFill>
                          <a:uFillTx/>
                          <a:latin typeface="Calibri"/>
                        </a:rPr>
                        <a:t>provisión de asistencia inmediata </a:t>
                      </a:r>
                      <a:r>
                        <a:rPr b="0" lang="en-US" sz="1100" spc="-1" strike="noStrike">
                          <a:solidFill>
                            <a:srgbClr val="000000"/>
                          </a:solidFill>
                          <a:latin typeface="Calibri"/>
                        </a:rPr>
                        <a:t>con el objetivo de investigaciones o procedimientos relativos a delitos criminales relativos a sistema o datos informáticos o para la recogida de pruebas en formato electrónico de un delito penal. Dicha asistencia incluirá la facilitación o, si lo permite la práctica y la legislación nacional, poner en práctica directamente las siguientes medida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la provisión del asesoramiento técnico;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u="sng">
                          <a:solidFill>
                            <a:srgbClr val="000000"/>
                          </a:solidFill>
                          <a:uFillTx/>
                          <a:latin typeface="Calibri"/>
                        </a:rPr>
                        <a:t>B- la conservación de los datos conforme a los Artículos 29 y 30;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 la recogida de pruebas, la provisión de información legal y la localización de sospechoso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2 A- el punto de contacto de una Parte tendrá la capacidad de mantener comunicaciones con el punto de contacto de otra Parte rápidamente.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 Si el punto de contacto designado por una Parte no forma parte de la autoridad de la Parte o las autoridades responsables de la extradición o asistencia mutua internacional, el punto de contacto garantizará que es capaz de coordinarse con dicha autoridad o autoridades sobre la base de la rapidez.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 Cada parte garantizará que contar con personal formado y equipado para facilitar la operación de la red.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ículo 29: conservación rápida de datos informáticos almacenados</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 </a:t>
                      </a:r>
                      <a:r>
                        <a:rPr b="1" lang="en-US" sz="1100" spc="-1" strike="noStrike">
                          <a:solidFill>
                            <a:srgbClr val="000000"/>
                          </a:solidFill>
                          <a:latin typeface="Calibri"/>
                        </a:rPr>
                        <a:t>Una Parte puede solicitar a otra Parte que ordene u obtenga la conservación rápida de los datos almacenados por medio de un sistema informático</a:t>
                      </a:r>
                      <a:r>
                        <a:rPr b="0" lang="en-US" sz="1100" spc="-1" strike="noStrike">
                          <a:solidFill>
                            <a:srgbClr val="000000"/>
                          </a:solidFill>
                          <a:latin typeface="Calibri"/>
                        </a:rPr>
                        <a:t>, situado dentro del territorio de dicha otra Parte </a:t>
                      </a:r>
                      <a:r>
                        <a:rPr b="0" lang="en-US" sz="1100" spc="-1" strike="noStrike" u="sng">
                          <a:solidFill>
                            <a:srgbClr val="000000"/>
                          </a:solidFill>
                          <a:uFillTx/>
                          <a:latin typeface="Calibri"/>
                        </a:rPr>
                        <a:t>y</a:t>
                      </a:r>
                      <a:r>
                        <a:rPr b="0" lang="en-US" sz="1100" spc="-1" strike="noStrike">
                          <a:solidFill>
                            <a:srgbClr val="000000"/>
                          </a:solidFill>
                          <a:latin typeface="Calibri"/>
                        </a:rPr>
                        <a:t> teniendo presente </a:t>
                      </a:r>
                      <a:r>
                        <a:rPr b="1" lang="en-US" sz="1100" spc="-1" strike="noStrike">
                          <a:solidFill>
                            <a:srgbClr val="000000"/>
                          </a:solidFill>
                          <a:latin typeface="Calibri"/>
                        </a:rPr>
                        <a:t>que la Parte solicitante intenta presentar una solicitud de asistencia mutua para </a:t>
                      </a:r>
                      <a:r>
                        <a:rPr b="0" lang="en-US" sz="1100" spc="-1" strike="noStrike">
                          <a:solidFill>
                            <a:srgbClr val="000000"/>
                          </a:solidFill>
                          <a:latin typeface="Calibri"/>
                        </a:rPr>
                        <a:t>la búsqueda o acceso similar, incautación o protección similar o divulgación de los dato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 Al recibir la solicitud de la otra Parte, la Parte solicitada tomará todas las medidas necesarias para conservar rápidamente los datos especificados de acuerdo con su legislación nacional. Con el fin de responder a una solicitud, no se requerirá la criminalidad doble como condición para facilitar dicha conservación.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7. </a:t>
                      </a:r>
                      <a:r>
                        <a:rPr b="1" lang="en-US" sz="1100" spc="-1" strike="noStrike">
                          <a:solidFill>
                            <a:srgbClr val="000000"/>
                          </a:solidFill>
                          <a:latin typeface="Calibri"/>
                        </a:rPr>
                        <a:t>Cualquier conservación afectada en respuesta a la solicitud a la que hace referencia el párrafo 1, será por un periodo </a:t>
                      </a:r>
                      <a:r>
                        <a:rPr b="1" lang="en-US" sz="1100" spc="-1" strike="noStrike" u="sng">
                          <a:solidFill>
                            <a:srgbClr val="000000"/>
                          </a:solidFill>
                          <a:uFillTx/>
                          <a:latin typeface="Calibri"/>
                        </a:rPr>
                        <a:t>no inferior a sesenta días</a:t>
                      </a:r>
                      <a:r>
                        <a:rPr b="0" lang="en-US" sz="1100" spc="-1" strike="noStrike">
                          <a:solidFill>
                            <a:srgbClr val="000000"/>
                          </a:solidFill>
                          <a:latin typeface="Calibri"/>
                        </a:rPr>
                        <a:t>, </a:t>
                      </a:r>
                      <a:r>
                        <a:rPr b="1" lang="en-US" sz="1100" spc="-1" strike="noStrike">
                          <a:solidFill>
                            <a:srgbClr val="000000"/>
                          </a:solidFill>
                          <a:latin typeface="Calibri"/>
                        </a:rPr>
                        <a:t>para permitir que la Parte solicitante presente una solicitud</a:t>
                      </a:r>
                      <a:r>
                        <a:rPr b="0" lang="en-US" sz="1100" spc="-1" strike="noStrike">
                          <a:solidFill>
                            <a:srgbClr val="000000"/>
                          </a:solidFill>
                          <a:latin typeface="Calibri"/>
                        </a:rPr>
                        <a:t> para la búsqueda o acceso similar, incautación o protección similar o divulgación de los datos. Tras las recepción de dicha solicitud, los datos se continuarán conservando pendientes de la decisión sobre dicha solicitud.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9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E38BE69-6F98-4367-B599-156CCA3BCC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ntes de enviar una MLA para la recogida de datos electrónicos...</a:t>
            </a:r>
            <a:endParaRPr b="0" lang="en-US" sz="4400" spc="-1" strike="noStrike">
              <a:solidFill>
                <a:srgbClr val="000000"/>
              </a:solidFill>
              <a:latin typeface="Calibri"/>
            </a:endParaRPr>
          </a:p>
        </p:txBody>
      </p:sp>
      <p:sp>
        <p:nvSpPr>
          <p:cNvPr id="95" name=""/>
          <p:cNvSpPr txBox="1"/>
          <p:nvPr/>
        </p:nvSpPr>
        <p:spPr>
          <a:xfrm>
            <a:off x="457200" y="1879200"/>
            <a:ext cx="8229600" cy="4597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 el país requerido forma parte del Convenido de Budapest, </a:t>
            </a:r>
            <a:r>
              <a:rPr b="1" lang="en-US" sz="3200" spc="-1" strike="noStrike" u="sng">
                <a:solidFill>
                  <a:srgbClr val="000000"/>
                </a:solidFill>
                <a:uFillTx/>
                <a:latin typeface="Calibri"/>
              </a:rPr>
              <a:t>utilice el Artículo 29</a:t>
            </a:r>
            <a:r>
              <a:rPr b="1" lang="en-US" sz="3200" spc="-1" strike="noStrike">
                <a:solidFill>
                  <a:srgbClr val="000000"/>
                </a:solidFill>
                <a:latin typeface="Calibri"/>
              </a:rPr>
              <a:t> </a:t>
            </a:r>
            <a:r>
              <a:rPr b="0" lang="en-US" sz="3200" spc="-1" strike="noStrike">
                <a:solidFill>
                  <a:srgbClr val="000000"/>
                </a:solidFill>
                <a:latin typeface="Calibri"/>
              </a:rPr>
              <a:t>y coordine con las autoridades nacionales competentes la solicitud de conservación urgente de los dato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45720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Wingdings"/>
                <a:ea typeface="Wingdings"/>
              </a:rPr>
              <a:t></a:t>
            </a:r>
            <a:r>
              <a:rPr b="0" i="1" lang="en-US" sz="2400" spc="-1" strike="noStrike">
                <a:solidFill>
                  <a:srgbClr val="000000"/>
                </a:solidFill>
                <a:latin typeface="Calibri"/>
              </a:rPr>
              <a:t> </a:t>
            </a:r>
            <a:r>
              <a:rPr b="0" i="1" lang="en-US" sz="2400" spc="-1" strike="noStrike">
                <a:solidFill>
                  <a:srgbClr val="000000"/>
                </a:solidFill>
                <a:latin typeface="Calibri"/>
              </a:rPr>
              <a:t>Esto es útil solo si se realiza pronto durante el curso de la investigación, ya que no todos los países imponen a los IPS y a otros proveedores de servicios de Internet obligación de mantener los datos durante un periodo mínimo de tiempo con fines de investigación</a:t>
            </a:r>
            <a:endParaRPr b="0" lang="en-US" sz="2400" spc="-1" strike="noStrike">
              <a:solidFill>
                <a:srgbClr val="000000"/>
              </a:solidFill>
              <a:latin typeface="Calibri"/>
            </a:endParaRPr>
          </a:p>
        </p:txBody>
      </p:sp>
      <p:sp>
        <p:nvSpPr>
          <p:cNvPr id="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D3B7922-4F2A-4D68-8261-85F09173EC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n la práctica...</a:t>
            </a:r>
            <a:endParaRPr b="0" lang="en-US" sz="4400" spc="-1" strike="noStrike">
              <a:solidFill>
                <a:srgbClr val="000000"/>
              </a:solidFill>
              <a:latin typeface="Calibri"/>
            </a:endParaRPr>
          </a:p>
        </p:txBody>
      </p:sp>
      <p:sp>
        <p:nvSpPr>
          <p:cNvPr id="98" name=""/>
          <p:cNvSpPr txBox="1"/>
          <p:nvPr/>
        </p:nvSpPr>
        <p:spPr>
          <a:xfrm>
            <a:off x="456840" y="1225080"/>
            <a:ext cx="8394840" cy="52326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l punto de contacto designado contactará con su homólogo en el país objetivo en base 24/7;</a:t>
            </a:r>
            <a:endParaRPr b="0" lang="en-US" sz="2400" spc="-1" strike="noStrike">
              <a:solidFill>
                <a:srgbClr val="000000"/>
              </a:solidFill>
              <a:latin typeface="Calibri"/>
            </a:endParaRPr>
          </a:p>
          <a:p>
            <a:pPr marL="322200" indent="-32220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t>
            </a:r>
            <a:r>
              <a:rPr b="0" lang="en-US" sz="1800" spc="-1" strike="noStrike">
                <a:solidFill>
                  <a:srgbClr val="000000"/>
                </a:solidFill>
                <a:latin typeface="Calibri"/>
              </a:rPr>
              <a:t>Puntos de contacto designados: </a:t>
            </a:r>
            <a:r>
              <a:rPr b="0" lang="en-US" sz="1800" spc="-1" strike="noStrike" u="sng">
                <a:solidFill>
                  <a:srgbClr val="0000ff"/>
                </a:solidFill>
                <a:uFillTx/>
                <a:latin typeface="Calibri"/>
                <a:hlinkClick r:id="rId1"/>
              </a:rPr>
              <a:t>http://www.coe.int/en/web/conventions/full-list/-/conventions/treaty/185/declarations?p_auth=r6eUYhF4</a:t>
            </a:r>
            <a:r>
              <a:rPr b="0" lang="en-US" sz="1800" spc="-1" strike="noStrike">
                <a:solidFill>
                  <a:srgbClr val="000000"/>
                </a:solidFill>
                <a:latin typeface="Calibri"/>
              </a:rPr>
              <a:t> )</a:t>
            </a:r>
            <a:endParaRPr b="0" lang="en-US" sz="1800" spc="-1" strike="noStrike">
              <a:solidFill>
                <a:srgbClr val="000000"/>
              </a:solidFill>
              <a:latin typeface="Calibri"/>
            </a:endParaRPr>
          </a:p>
          <a:p>
            <a:pPr marL="322200" indent="-32220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licitará </a:t>
            </a:r>
            <a:r>
              <a:rPr b="1" lang="en-US" sz="2400" spc="-1" strike="noStrike" u="sng">
                <a:solidFill>
                  <a:srgbClr val="000000"/>
                </a:solidFill>
                <a:uFillTx/>
                <a:latin typeface="Calibri"/>
              </a:rPr>
              <a:t>preservar</a:t>
            </a:r>
            <a:r>
              <a:rPr b="0" lang="en-US" sz="2400" spc="-1" strike="noStrike">
                <a:solidFill>
                  <a:srgbClr val="000000"/>
                </a:solidFill>
                <a:latin typeface="Calibri"/>
              </a:rPr>
              <a:t> los datos necesarios para la investigación durante al menos 60 días (en ocasiones más; por ejemplo en EE.UU.: 90 días, renovable una vez)</a:t>
            </a:r>
            <a:endParaRPr b="0" lang="en-US" sz="2400" spc="-1" strike="noStrike">
              <a:solidFill>
                <a:srgbClr val="000000"/>
              </a:solidFill>
              <a:latin typeface="Calibri"/>
            </a:endParaRPr>
          </a:p>
          <a:p>
            <a:pPr marL="322200" indent="-3222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urante este tiempo, preparar y enviar la MLA para </a:t>
            </a:r>
            <a:r>
              <a:rPr b="1" lang="en-US" sz="2400" spc="-1" strike="noStrike" u="sng">
                <a:solidFill>
                  <a:srgbClr val="000000"/>
                </a:solidFill>
                <a:uFillTx/>
                <a:latin typeface="Calibri"/>
              </a:rPr>
              <a:t>obtener</a:t>
            </a:r>
            <a:r>
              <a:rPr b="0" lang="en-US" sz="2400" spc="-1" strike="noStrike">
                <a:solidFill>
                  <a:srgbClr val="000000"/>
                </a:solidFill>
                <a:latin typeface="Calibri"/>
              </a:rPr>
              <a:t> los datos:</a:t>
            </a:r>
            <a:endParaRPr b="0" lang="en-US" sz="24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i los datos existen, deben haberse conservado;</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i se necesita la causa probable, mencione la solicitud de conservación rápida (fecha y número) en la MLA</a:t>
            </a:r>
            <a:endParaRPr b="0" lang="en-US" sz="2000" spc="-1" strike="noStrike">
              <a:solidFill>
                <a:srgbClr val="000000"/>
              </a:solidFill>
              <a:latin typeface="Calibri"/>
            </a:endParaRPr>
          </a:p>
        </p:txBody>
      </p:sp>
      <p:sp>
        <p:nvSpPr>
          <p:cNvPr id="9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210888A-9673-4CA7-8C43-D9CB45B809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3920" y="554040"/>
            <a:ext cx="8686800" cy="148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Una parece que debe redactarse una solicitud de MLA, ¿qué información debe comprobarse?</a:t>
            </a:r>
            <a:br>
              <a:rPr sz="3200"/>
            </a:br>
            <a:endParaRPr b="0" lang="en-US" sz="3200" spc="-1" strike="noStrike">
              <a:solidFill>
                <a:srgbClr val="000000"/>
              </a:solidFill>
              <a:latin typeface="Calibri"/>
            </a:endParaRPr>
          </a:p>
        </p:txBody>
      </p:sp>
      <p:sp>
        <p:nvSpPr>
          <p:cNvPr id="101" name=""/>
          <p:cNvSpPr txBox="1"/>
          <p:nvPr/>
        </p:nvSpPr>
        <p:spPr>
          <a:xfrm>
            <a:off x="457200" y="1875960"/>
            <a:ext cx="8453520" cy="4365720"/>
          </a:xfrm>
          <a:prstGeom prst="rect">
            <a:avLst/>
          </a:prstGeom>
          <a:noFill/>
          <a:ln w="0">
            <a:noFill/>
          </a:ln>
        </p:spPr>
        <p:txBody>
          <a:bodyPr anchor="t">
            <a:normAutofit fontScale="91000"/>
          </a:bodyPr>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Qué convenio debe aplicarse y mencionarse en la solicitud?</a:t>
            </a:r>
            <a:endParaRPr b="0" lang="en-US" sz="3000" spc="-1" strike="noStrike">
              <a:solidFill>
                <a:srgbClr val="000000"/>
              </a:solidFill>
              <a:latin typeface="Calibri"/>
            </a:endParaRPr>
          </a:p>
          <a:p>
            <a:pPr marL="312120" indent="-31212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Wingdings"/>
                <a:ea typeface="Wingdings"/>
              </a:rPr>
              <a:t></a:t>
            </a:r>
            <a:r>
              <a:rPr b="0" lang="en-US" sz="3000" spc="-1" strike="noStrike">
                <a:solidFill>
                  <a:srgbClr val="000000"/>
                </a:solidFill>
                <a:latin typeface="Calibri"/>
              </a:rPr>
              <a:t> </a:t>
            </a:r>
            <a:r>
              <a:rPr b="0" lang="en-US" sz="3000" spc="-1" strike="noStrike">
                <a:solidFill>
                  <a:srgbClr val="000000"/>
                </a:solidFill>
                <a:latin typeface="Calibri"/>
              </a:rPr>
              <a:t>(¿Puedo mencionar el Convenio de Budapest?)</a:t>
            </a:r>
            <a:endParaRPr b="0" lang="en-US" sz="3000" spc="-1" strike="noStrike">
              <a:solidFill>
                <a:srgbClr val="000000"/>
              </a:solidFill>
              <a:latin typeface="Calibri"/>
            </a:endParaRPr>
          </a:p>
          <a:p>
            <a:pPr marL="312120" indent="-31212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u="sng">
                <a:solidFill>
                  <a:srgbClr val="0000ff"/>
                </a:solidFill>
                <a:uFillTx/>
                <a:latin typeface="Calibri"/>
                <a:hlinkClick r:id="rId1"/>
              </a:rPr>
              <a:t>http://www.coe.int/en/web/conventions/full-list/-/conventions/treaty/185</a:t>
            </a:r>
            <a:endParaRPr b="0" lang="en-US" sz="1900" spc="-1" strike="noStrike">
              <a:solidFill>
                <a:srgbClr val="000000"/>
              </a:solidFill>
              <a:latin typeface="Calibri"/>
            </a:endParaRPr>
          </a:p>
          <a:p>
            <a:pPr marL="312120" indent="-31212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áles son los canales específicos de las transmisiones?</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áles son los requisitos de traducción?</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áles son los requisitos de contenido? (Por ejemplo, la causa probable en EE.UU.)</a:t>
            </a:r>
            <a:endParaRPr b="0" lang="en-US" sz="3000" spc="-1" strike="noStrike">
              <a:solidFill>
                <a:srgbClr val="000000"/>
              </a:solidFill>
              <a:latin typeface="Calibri"/>
            </a:endParaRPr>
          </a:p>
        </p:txBody>
      </p:sp>
      <p:sp>
        <p:nvSpPr>
          <p:cNvPr id="10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10B1E1A-3A58-4417-8C92-51DFC573F1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58560" y="232920"/>
            <a:ext cx="8543880" cy="1639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uáles son las posibles consecuencias de no cumplir con los requisitos de transmisión y redacción?</a:t>
            </a:r>
            <a:endParaRPr b="0" lang="en-US" sz="4000" spc="-1" strike="noStrike">
              <a:solidFill>
                <a:srgbClr val="000000"/>
              </a:solidFill>
              <a:latin typeface="Calibri"/>
            </a:endParaRPr>
          </a:p>
        </p:txBody>
      </p:sp>
      <p:sp>
        <p:nvSpPr>
          <p:cNvPr id="104" name=""/>
          <p:cNvSpPr txBox="1"/>
          <p:nvPr/>
        </p:nvSpPr>
        <p:spPr>
          <a:xfrm>
            <a:off x="474840" y="1203120"/>
            <a:ext cx="8386560" cy="4832280"/>
          </a:xfrm>
          <a:prstGeom prst="rect">
            <a:avLst/>
          </a:prstGeom>
          <a:noFill/>
          <a:ln w="0">
            <a:noFill/>
          </a:ln>
        </p:spPr>
        <p:txBody>
          <a:bodyPr anchor="t">
            <a:normAutofit fontScale="91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MLA no se ejecutará, o </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La ejecución se retrasará y se solicitará más información</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Las pruebas podrían no ser admisibles en un juicio si se infringe la legislación nacional e internacional</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Las pruebas electrónicas son volátiles y pueden desaparecer en cualquier momento. (Solo 1 oportunidad)</a:t>
            </a:r>
            <a:endParaRPr b="0" lang="en-US" sz="3200" spc="-1" strike="noStrike">
              <a:solidFill>
                <a:srgbClr val="000000"/>
              </a:solidFill>
              <a:latin typeface="Calibri"/>
            </a:endParaRPr>
          </a:p>
        </p:txBody>
      </p:sp>
      <p:sp>
        <p:nvSpPr>
          <p:cNvPr id="105" name="Éclair 3"/>
          <p:cNvSpPr/>
          <p:nvPr/>
        </p:nvSpPr>
        <p:spPr>
          <a:xfrm>
            <a:off x="436680" y="5578560"/>
            <a:ext cx="914400" cy="914400"/>
          </a:xfrm>
          <a:prstGeom prst="lightningBolt">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B83761-0C4B-48B5-9B33-A62AA57E7F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Primera parte</a:t>
            </a:r>
            <a:endParaRPr b="0" lang="en-US" sz="2200" spc="-1" strike="noStrike">
              <a:solidFill>
                <a:srgbClr val="000000"/>
              </a:solidFill>
              <a:latin typeface="Calibri"/>
            </a:endParaRPr>
          </a:p>
          <a:p>
            <a:pPr marL="335880" indent="-33588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	</a:t>
            </a:r>
            <a:r>
              <a:rPr b="0" lang="en-US" sz="2100" spc="-1" strike="noStrike">
                <a:solidFill>
                  <a:srgbClr val="000000"/>
                </a:solidFill>
                <a:latin typeface="Calibri"/>
              </a:rPr>
              <a:t>Principios generales de la asistencia legal mutua</a:t>
            </a:r>
            <a:endParaRPr b="0" lang="en-US" sz="2100" spc="-1" strike="noStrike">
              <a:solidFill>
                <a:srgbClr val="000000"/>
              </a:solidFill>
              <a:latin typeface="Calibri"/>
            </a:endParaRPr>
          </a:p>
          <a:p>
            <a:pPr marL="335880" indent="-3358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Segunda parte</a:t>
            </a:r>
            <a:endParaRPr b="0" lang="en-US" sz="2200" spc="-1" strike="noStrike">
              <a:solidFill>
                <a:srgbClr val="000000"/>
              </a:solidFill>
              <a:latin typeface="Calibri"/>
            </a:endParaRPr>
          </a:p>
          <a:p>
            <a:pPr lvl="1" marL="447840">
              <a:lnSpc>
                <a:spcPct val="80000"/>
              </a:lnSpc>
              <a:spcBef>
                <a:spcPts val="5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000000"/>
                </a:solidFill>
                <a:latin typeface="Calibri"/>
              </a:rPr>
              <a:t>Preparación de una solicitud de asistencia legal mutua</a:t>
            </a:r>
            <a:endParaRPr b="0" lang="en-US" sz="2100" spc="-1" strike="noStrike">
              <a:solidFill>
                <a:srgbClr val="000000"/>
              </a:solidFill>
              <a:latin typeface="Calibri"/>
            </a:endParaRPr>
          </a:p>
          <a:p>
            <a:pPr lvl="1" marL="447840">
              <a:lnSpc>
                <a:spcPct val="80000"/>
              </a:lnSpc>
              <a:spcBef>
                <a:spcPts val="5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Tercera parte</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dacción de una solicitud de asistencia legal mutua</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Cuarta parte</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cepción de una solicitud de asistencia legal mutua</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Quinta parte </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sumen</a:t>
            </a:r>
            <a:endParaRPr b="0" lang="en-US" sz="2000" spc="-1" strike="noStrike">
              <a:solidFill>
                <a:srgbClr val="000000"/>
              </a:solidFill>
              <a:latin typeface="Calibri"/>
            </a:endParaRPr>
          </a:p>
        </p:txBody>
      </p:sp>
      <p:sp>
        <p:nvSpPr>
          <p:cNvPr id="5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4D979C5-3B14-464F-88EB-3A5C41CDF4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8"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reguntas</a:t>
            </a:r>
            <a:endParaRPr b="0" lang="en-US" sz="5400" spc="-1" strike="noStrike">
              <a:solidFill>
                <a:srgbClr val="000000"/>
              </a:solidFill>
              <a:latin typeface="Arial"/>
            </a:endParaRPr>
          </a:p>
        </p:txBody>
      </p:sp>
      <p:sp>
        <p:nvSpPr>
          <p:cNvPr id="10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8E57B7-CB7F-4ACD-BDDD-D06D732C62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MS PGothic"/>
              </a:rPr>
              <a:t>Tercera parte</a:t>
            </a:r>
            <a:br>
              <a:rPr sz="3200"/>
            </a:br>
            <a:r>
              <a:rPr b="1" lang="en-US" sz="3200" spc="-1" strike="noStrike">
                <a:solidFill>
                  <a:srgbClr val="000000"/>
                </a:solidFill>
                <a:latin typeface="Calibri"/>
                <a:ea typeface="MS PGothic"/>
              </a:rPr>
              <a:t>Redacción de la solicitud de MLA</a:t>
            </a:r>
            <a:endParaRPr b="0" lang="en-US" sz="3200" spc="-1" strike="noStrike">
              <a:solidFill>
                <a:srgbClr val="000000"/>
              </a:solidFill>
              <a:latin typeface="Calibri"/>
            </a:endParaRPr>
          </a:p>
        </p:txBody>
      </p:sp>
      <p:pic>
        <p:nvPicPr>
          <p:cNvPr id="111" name="Picture 3" descr=""/>
          <p:cNvPicPr/>
          <p:nvPr/>
        </p:nvPicPr>
        <p:blipFill>
          <a:blip r:embed="rId1"/>
          <a:stretch/>
        </p:blipFill>
        <p:spPr>
          <a:xfrm>
            <a:off x="6786720" y="4643280"/>
            <a:ext cx="1962000" cy="176688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A2CA366-EEB2-45D2-AF46-E5C914B04B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2600" y="274320"/>
            <a:ext cx="849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ómo debe ser la una solicitud de MLA?</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114" name=""/>
          <p:cNvSpPr txBox="1"/>
          <p:nvPr/>
        </p:nvSpPr>
        <p:spPr>
          <a:xfrm>
            <a:off x="457200" y="1599840"/>
            <a:ext cx="8229600" cy="499284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da país y autoridad pueden disponer de varios modos de presentar una MLA</a:t>
            </a:r>
            <a:endParaRPr b="0" lang="en-US" sz="2800" spc="-1" strike="noStrike">
              <a:solidFill>
                <a:srgbClr val="000000"/>
              </a:solidFill>
              <a:latin typeface="Calibri"/>
            </a:endParaRPr>
          </a:p>
          <a:p>
            <a:pPr marL="339480" indent="-3394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hay un modelo impuesto internacionalmente, excepto el de EE.UU. posterior al 22 de mayo de 2017</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periencias regionales orientadas al uso de formularios modelo para algunos países o algunos tipos de solicitudes (por ejemplo, formularios del modelo del CdE, formularios del modelo UNODC, solicitudes de datos electrónicos para EE.UU., ...)</a:t>
            </a:r>
            <a:endParaRPr b="0" lang="en-US" sz="2800" spc="-1" strike="noStrike">
              <a:solidFill>
                <a:srgbClr val="000000"/>
              </a:solidFill>
              <a:latin typeface="Calibri"/>
            </a:endParaRPr>
          </a:p>
        </p:txBody>
      </p:sp>
      <p:sp>
        <p:nvSpPr>
          <p:cNvPr id="11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3651C74-59CC-4D6B-8B2B-1F4942283A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jemplos regionales: </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000000"/>
                </a:solidFill>
                <a:uFillTx/>
                <a:latin typeface="Calibri"/>
              </a:rPr>
              <a:t>La Unión Europea:</a:t>
            </a:r>
            <a:endParaRPr b="0" lang="en-US" sz="3200" spc="-1" strike="noStrike">
              <a:solidFill>
                <a:srgbClr val="000000"/>
              </a:solidFill>
              <a:latin typeface="Calibri"/>
            </a:endParaRPr>
          </a:p>
          <a:p>
            <a:pPr marL="325800" indent="-3258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5800" indent="-3258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de el 22 de mayo de 2017, a los estados de la UE </a:t>
            </a:r>
            <a:r>
              <a:rPr b="0" lang="en-US" sz="3200" spc="-1" strike="noStrike" u="sng">
                <a:solidFill>
                  <a:srgbClr val="000000"/>
                </a:solidFill>
                <a:uFillTx/>
                <a:latin typeface="Calibri"/>
              </a:rPr>
              <a:t>se les solicita</a:t>
            </a:r>
            <a:r>
              <a:rPr b="0" lang="en-US" sz="3200" spc="-1" strike="noStrike">
                <a:solidFill>
                  <a:srgbClr val="000000"/>
                </a:solidFill>
                <a:latin typeface="Calibri"/>
              </a:rPr>
              <a:t> sustituir solicitudes de MLA por un formulario único denominado Orden de investigación europea (EIO, por sus siglas en inglés) para la cooperación en asuntos delictivos entre estados miembros (excepto para equipos de investigación conjunta)</a:t>
            </a:r>
            <a:endParaRPr b="0" lang="en-US" sz="3200" spc="-1" strike="noStrike">
              <a:solidFill>
                <a:srgbClr val="000000"/>
              </a:solidFill>
              <a:latin typeface="Calibri"/>
            </a:endParaRPr>
          </a:p>
        </p:txBody>
      </p:sp>
      <p:sp>
        <p:nvSpPr>
          <p:cNvPr id="11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395217-AC86-4455-9D40-98BE369F6A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La Orden de investigación europea (desde mayo de 2017)</a:t>
            </a:r>
            <a:endParaRPr b="0" lang="en-US" sz="3600" spc="-1" strike="noStrike">
              <a:solidFill>
                <a:srgbClr val="000000"/>
              </a:solidFill>
              <a:latin typeface="Calibri"/>
            </a:endParaRPr>
          </a:p>
        </p:txBody>
      </p:sp>
      <p:sp>
        <p:nvSpPr>
          <p:cNvPr id="120" name=""/>
          <p:cNvSpPr txBox="1"/>
          <p:nvPr/>
        </p:nvSpPr>
        <p:spPr>
          <a:xfrm>
            <a:off x="457200" y="18298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 cumplimenta un formulario único entre países de la UE (excepto Irlanda y Dinamarca y J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zos específicos para ejecutar la E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tivos específicos para denegar la ejecución de una E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tos estándares igualitarios para garantizar los derechos de los ciudadanos</a:t>
            </a:r>
            <a:endParaRPr b="0" lang="en-US" sz="3200" spc="-1" strike="noStrike">
              <a:solidFill>
                <a:srgbClr val="000000"/>
              </a:solidFill>
              <a:latin typeface="Calibri"/>
            </a:endParaRPr>
          </a:p>
        </p:txBody>
      </p:sp>
      <p:sp>
        <p:nvSpPr>
          <p:cNvPr id="12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C54866-8145-4536-AF13-D3037F60DE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77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ormulario del modelo de MLA del Consejo de Europa</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23" name=""/>
          <p:cNvSpPr txBox="1"/>
          <p:nvPr/>
        </p:nvSpPr>
        <p:spPr>
          <a:xfrm>
            <a:off x="457200" y="19731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 formulario de solicitud de asistencia mutua en materia penal adoptado por el PC-OC en su 69ª reunión en 20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entado tan solo a ser una guía y ofrecer referenc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ede adaptarse a cada país y a cada caso</a:t>
            </a:r>
            <a:endParaRPr b="0" lang="en-US" sz="3200" spc="-1" strike="noStrike">
              <a:solidFill>
                <a:srgbClr val="000000"/>
              </a:solidFill>
              <a:latin typeface="Calibri"/>
            </a:endParaRPr>
          </a:p>
        </p:txBody>
      </p:sp>
      <p:sp>
        <p:nvSpPr>
          <p:cNvPr id="12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0F8A7D3-F448-43D4-9AAA-CB1A7E7FB9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47320" y="101160"/>
            <a:ext cx="8761320" cy="6535800"/>
          </a:xfrm>
          <a:prstGeom prst="rect">
            <a:avLst/>
          </a:prstGeom>
          <a:noFill/>
          <a:ln w="0">
            <a:noFill/>
          </a:ln>
        </p:spPr>
        <p:txBody>
          <a:bodyPr anchor="t">
            <a:normAutofit fontScale="98000"/>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ÍTULO DE LA SOLICITUD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rocedimiento n°…….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ndicación de urgencia/confidencialidad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1. AUTORIDAD SOLICITANTE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ítulo oficial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irección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etalles de contacto: números de teléfono y fax, direcciones de correo electrónico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dioma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2. AUTORIDAD SOLICITADA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ítulo oficial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irección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3. OBJETO Y MOTIVO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Tipo y propósito de la solicitud. - Base legal de la solicitud. - Tipo de delito. - Descripción de la etapa de los procedimientos penales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uando sea aplicable: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Justificación de la urgencia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ndicación de un requisito a notificar sobre la fecha/ubicación de la ejecución de la solicitud, así como la presencia de personas concretas con sus datos de contacto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ndicación sobre la participación previa de funcionarios del orden público y sus datos de contacto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nformación sobre solicitudes de MLA/comunicaciones previas (incluyendo números de referencia)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p:txBody>
      </p:sp>
      <p:sp>
        <p:nvSpPr>
          <p:cNvPr id="12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917A88-30BB-4BCB-8EB7-7691893944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282240"/>
            <a:ext cx="8229600" cy="6264360"/>
          </a:xfrm>
          <a:prstGeom prst="rect">
            <a:avLst/>
          </a:prstGeom>
          <a:noFill/>
          <a:ln w="0">
            <a:noFill/>
          </a:ln>
        </p:spPr>
        <p:txBody>
          <a:bodyPr anchor="t">
            <a:normAutofit fontScale="99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4. PERSONAS IMPLICADAS (principalmente sospechoso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mbr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éner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cionalida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irecció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sición en los procesos judiciale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uando proceda y esté disponible: - Número de DNI/pasaporte. - Alias.  - Fecha/lugar de nacimiento.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formación sobre una persona legal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Nombre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Cuando proceda y esté disponi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úmero de registro Dirección del asient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irecciones de las distintas filial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atos de contacto de la persona autorizada a actuar en nombre de la empresa </a:t>
            </a:r>
            <a:endParaRPr b="0" lang="en-US" sz="1800" spc="-1" strike="noStrike">
              <a:solidFill>
                <a:srgbClr val="000000"/>
              </a:solidFill>
              <a:latin typeface="Calibri"/>
            </a:endParaRPr>
          </a:p>
        </p:txBody>
      </p:sp>
      <p:sp>
        <p:nvSpPr>
          <p:cNvPr id="128"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2AD540-5650-484B-B847-E69700ABE6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6840" y="260280"/>
            <a:ext cx="8325000" cy="5865840"/>
          </a:xfrm>
          <a:prstGeom prst="rect">
            <a:avLst/>
          </a:prstGeom>
          <a:noFill/>
          <a:ln w="0">
            <a:noFill/>
          </a:ln>
        </p:spPr>
        <p:txBody>
          <a:bodyPr anchor="t">
            <a:normAutofit fontScale="96000"/>
          </a:bodyPr>
          <a:p>
            <a:pPr marL="438840" indent="-43884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MEDIDAS SOLICITADAS </a:t>
            </a:r>
            <a:endParaRPr b="0" lang="en-US" sz="1800" spc="-1" strike="noStrike">
              <a:solidFill>
                <a:srgbClr val="000000"/>
              </a:solidFill>
              <a:latin typeface="Calibri"/>
            </a:endParaRPr>
          </a:p>
          <a:p>
            <a:pPr marL="438840" indent="-43884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8840" indent="-438840">
              <a:spcBef>
                <a:spcPts val="451"/>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omisiones rogatorias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u="sng">
                <a:solidFill>
                  <a:srgbClr val="000000"/>
                </a:solidFill>
                <a:uFillTx/>
                <a:latin typeface="Calibri"/>
              </a:rPr>
              <a:t>i. Hechos e información legal sobre el delito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Resumen de los hechos relevantes que indican la hora, el lugar y la forma de comisión del delito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ualificación lega del delito con provisiones relevantes incluyendo el rango de las penas aplicables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escripción clara de los vínculos entre el delito y la persona y entre el delito y la prueba/medias/activos de origen delictivo buscados en el Estado solicitado.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uando proceda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ños provocados por el delito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formación sobre las víctimas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uando proceda, provisiones sobre intervalos de tiempo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ualquier otra información adicional que pudiera ayudar a la autoridad solicitada en la realización de la solicitud </a:t>
            </a:r>
            <a:endParaRPr b="0" lang="en-US" sz="1800" spc="-1" strike="noStrike">
              <a:solidFill>
                <a:srgbClr val="000000"/>
              </a:solidFill>
              <a:latin typeface="Calibri"/>
            </a:endParaRPr>
          </a:p>
        </p:txBody>
      </p:sp>
      <p:sp>
        <p:nvSpPr>
          <p:cNvPr id="13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A1AE08-3A2C-41AF-8E3C-AD735D409B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36400" y="392040"/>
            <a:ext cx="8229600" cy="4525920"/>
          </a:xfrm>
          <a:prstGeom prst="rect">
            <a:avLst/>
          </a:prstGeom>
          <a:noFill/>
          <a:ln w="0">
            <a:noFill/>
          </a:ln>
        </p:spPr>
        <p:txBody>
          <a:bodyPr anchor="t">
            <a:normAutofit fontScale="77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ii. Tipos de medid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a. Vista/interrogatorio de los testigos, expertos, sospechosos, personas acusadas y otras personas: modalidades específic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1. Vista/interrogatorio realizado por la autoridad solicitad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la autoridad competente que debe realizar la vist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l estado de la persona objeto de la vist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formación de los derechos y obligaciones (por ejemplo, vista bajo juramento/afirmación o  el derecho a ser asistido por un abogado/intérprete) a ser notificado por la persona objeto de la vista</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las preguntas a formular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ando proced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ndicación de si la persona objeto de la vista requiere protección (incluyendo los detalles sobre posibles acuerdos existentes entre ambas Partes en este problema) </a:t>
            </a:r>
            <a:endParaRPr b="0" lang="en-US" sz="20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8A4B5F-F3C7-4EB3-BE01-ACF3CB519B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56" name=""/>
          <p:cNvSpPr txBox="1"/>
          <p:nvPr/>
        </p:nvSpPr>
        <p:spPr>
          <a:xfrm>
            <a:off x="457200" y="1417680"/>
            <a:ext cx="8229600" cy="5186160"/>
          </a:xfrm>
          <a:prstGeom prst="rect">
            <a:avLst/>
          </a:prstGeom>
          <a:noFill/>
          <a:ln w="0">
            <a:noFill/>
          </a:ln>
        </p:spPr>
        <p:txBody>
          <a:bodyPr anchor="t">
            <a:normAutofit fontScale="98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l término de esta sesión, los delegados podrán:</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mpliar o recordar sus conocimientos sobre los principios generales de la asistencia legal mutua</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tar con conocimientos técnicos para fortalecer las posibilidades de ejecución de una solicitud de MLA en la etapa de redacción</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optar una perspectiva eficiente en la recepción de una solicitud de MLA de un país extranjero</a:t>
            </a:r>
            <a:endParaRPr b="0" lang="en-US" sz="3200" spc="-1" strike="noStrike">
              <a:solidFill>
                <a:srgbClr val="000000"/>
              </a:solidFill>
              <a:latin typeface="Calibri"/>
            </a:endParaRPr>
          </a:p>
        </p:txBody>
      </p:sp>
      <p:sp>
        <p:nvSpPr>
          <p:cNvPr id="5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3D7540E-1F70-44A1-B8F2-6D248CEE67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392040"/>
            <a:ext cx="8415360" cy="4525920"/>
          </a:xfrm>
          <a:prstGeom prst="rect">
            <a:avLst/>
          </a:prstGeom>
          <a:noFill/>
          <a:ln w="0">
            <a:noFill/>
          </a:ln>
        </p:spPr>
        <p:txBody>
          <a:bodyPr anchor="t">
            <a:normAutofit fontScale="76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2. Vista/interrogatorio por videoconferenci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los motivos por los que no es deseable o posible asistir en person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mbre de la autoridad judicial que realiza la vista/interrogatori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talles de los acuerdos prácticos correspondientes (información del técnico sobre medios disponibles, propuestas relativas al pago de los costes, datos de contacto para la persona de contacto técnica, etc.)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tificación de los derechos y obligaciones de la persona objeto de la vista/interrogatori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echas/hora propuest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ando proced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la necesidad de un intérprete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las medidas para proteger a la persona objeto de la vista/interrogatorio</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si el sospechoso o acusado consiente la vista/interrogatori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las preguntas a formular </a:t>
            </a:r>
            <a:endParaRPr b="0" lang="en-US" sz="20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3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DD7791-2712-4C1C-9EAF-9BF8101AF58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450360"/>
            <a:ext cx="8229600" cy="567540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3. Vista/interrogatorio por conferencia telefónica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dicación del nombre de la autoridad judicial o las personas que realizarán la vista/interrogatorio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dicación de que el testigo o experto está dispuesto a formar parte de la vista/interrogatorio mediante conferencia telefónica </a:t>
            </a:r>
            <a:endParaRPr b="0" lang="en-US" sz="2800" spc="-1" strike="noStrike">
              <a:solidFill>
                <a:srgbClr val="000000"/>
              </a:solidFill>
              <a:latin typeface="Calibri"/>
            </a:endParaRPr>
          </a:p>
        </p:txBody>
      </p:sp>
      <p:sp>
        <p:nvSpPr>
          <p:cNvPr id="13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B463DC-3312-44DD-942A-6B1EA30C09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47560" y="414360"/>
            <a:ext cx="8229600" cy="4525920"/>
          </a:xfrm>
          <a:prstGeom prst="rect">
            <a:avLst/>
          </a:prstGeom>
          <a:noFill/>
          <a:ln w="0">
            <a:noFill/>
          </a:ln>
        </p:spPr>
        <p:txBody>
          <a:bodyPr anchor="t">
            <a:normAutofit fontScale="73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b. Obtención de prueb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b1. Medidas general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dentificación de los elementos solicitado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Búsqueda e incautación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ipo de búsqueda: búsquedas de cuerpos/búsquedas de viviendas/otras premisa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 la medida de lo posible, información precisa de la persona o las premisas a buscar (localización, interés por la propiedad, cuentas bancaria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dentificación de documentos, registros, datos, etc.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ando proced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frecer datos sobre los vínculos entre la persona, el proceso judicial del extranjero y las medidas solicitadas, por ejemplo, el lugar a buscar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pia del mandato judicial/orden emitida por las autoridades solicitantes </a:t>
            </a:r>
            <a:endParaRPr b="0" lang="en-US" sz="2000" spc="-1" strike="noStrike">
              <a:solidFill>
                <a:srgbClr val="000000"/>
              </a:solidFill>
              <a:latin typeface="Calibri"/>
            </a:endParaRPr>
          </a:p>
        </p:txBody>
      </p:sp>
      <p:sp>
        <p:nvSpPr>
          <p:cNvPr id="13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B06CFE-4302-4007-AA97-8692B69045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0"/>
            <a:ext cx="8229600" cy="4681440"/>
          </a:xfrm>
          <a:prstGeom prst="rect">
            <a:avLst/>
          </a:prstGeom>
          <a:noFill/>
          <a:ln w="0">
            <a:noFill/>
          </a:ln>
        </p:spPr>
        <p:txBody>
          <a:bodyPr anchor="t">
            <a:normAutofit fontScale="80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2. Medidas específica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alibri"/>
              </a:rPr>
              <a:t> </a:t>
            </a:r>
            <a:r>
              <a:rPr b="1" lang="en-US" sz="1800" spc="-1" strike="noStrike" u="sng">
                <a:solidFill>
                  <a:srgbClr val="000000"/>
                </a:solidFill>
                <a:uFillTx/>
                <a:latin typeface="Calibri"/>
              </a:rPr>
              <a:t>b2.1.Datos electrónicos  </a:t>
            </a: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servación de los dato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formación adecuada para identificar los datos relevantes a conservar, incluyendo su localización (custodia de los datos informáticos almacenados, ubicación del sistema informático)</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ases para creer que existe riesgo de pérdida o modificació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ción de que se seguirá una solicitud de MLA, con vistas a la obtención de los datos conservado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a:t>
            </a:r>
            <a:r>
              <a:rPr b="1" lang="en-US" sz="1800" spc="-1" strike="noStrike">
                <a:solidFill>
                  <a:srgbClr val="000000"/>
                </a:solidFill>
                <a:latin typeface="Calibri"/>
              </a:rPr>
              <a:t>* Buscar o acceso similar, incautar o protección similar o divulgar los dato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pósito específic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formación adecuada para identificar los datos buscados para incautación, protección o divulgación, incluyendo, si se sabe, su ubicación física y el controlador de datos (custodio de los datos informáticos almacenados), datos técnicos necesarios para ejecutar dicha acció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asta donde sea posible, identificación precisa de la persona o premisas a buscar mientras se dan detalles en los vínculos entre la persona, los datos y el lugar donde buscar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unto de contacto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uando sea aplicable:</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Información sobre una solicitud previa para la conservación de los datos </a:t>
            </a:r>
            <a:endParaRPr b="0" lang="en-US" sz="1800" spc="-1" strike="noStrike">
              <a:solidFill>
                <a:srgbClr val="000000"/>
              </a:solidFill>
              <a:latin typeface="Calibri"/>
            </a:endParaRPr>
          </a:p>
        </p:txBody>
      </p:sp>
      <p:sp>
        <p:nvSpPr>
          <p:cNvPr id="14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C22EAE-6AB2-4C15-BE15-E278853BAF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800" y="369360"/>
            <a:ext cx="8229600" cy="4526280"/>
          </a:xfrm>
          <a:prstGeom prst="rect">
            <a:avLst/>
          </a:prstGeom>
          <a:noFill/>
          <a:ln w="0">
            <a:noFill/>
          </a:ln>
        </p:spPr>
        <p:txBody>
          <a:bodyPr anchor="t">
            <a:normAutofit fontScale="76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alibri"/>
              </a:rPr>
              <a:t> </a:t>
            </a:r>
            <a:r>
              <a:rPr b="1" lang="en-US" sz="1800" spc="-1" strike="noStrike" u="sng">
                <a:solidFill>
                  <a:srgbClr val="000000"/>
                </a:solidFill>
                <a:uFillTx/>
                <a:latin typeface="Calibri"/>
              </a:rPr>
              <a:t>b2.2. Incautación y/o confiscación de los activos de origen delictiv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otivos para creer que los activos están ubicados en el Estado solicitad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ción de los procedimientos que el Estado solicitante desea seguir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ción de que la medida buscada o cualquier otra medida similar puede obtenerse en el territorio del Estado solicitante bajo su legislación nacional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juntos: copia auténtica de la orden de incautación/confiscación y declaración de las bases para la orden; y, cuando proceda, atestado de que la confiscación es aplic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formación relativa a las cuentas bancarias en el Estado solicitado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uando proceda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uando la confiscación adquiere la forma de una solicitud para pagar una suma de dinero correspondiente al valor de los activos, proporcionar información sobre el valor máximo de los bienes a incautar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junto de los documentos que demuestran que terceros han tenido la oportunidad de reclamar derechos. - Información sobre solicitudes similares enviadas a otros Estado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Información sobre solicitudes anteriores para la obtención de pruebas/para la restricción de bienes u objetos incautados vinculados con la solicitud presente (nombre del acusado/persona sentenciada). - Resolución: indicación de elementos/artículos obtenidos por medios criminales que deben ponerse a disposición del Estado solicitante para devolverse a sus propietarios legítimo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4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E5EFA4-4C5C-4EF3-A23A-01BBB0F152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247680"/>
            <a:ext cx="8229600" cy="5686560"/>
          </a:xfrm>
          <a:prstGeom prst="rect">
            <a:avLst/>
          </a:prstGeom>
          <a:noFill/>
          <a:ln w="0">
            <a:noFill/>
          </a:ln>
        </p:spPr>
        <p:txBody>
          <a:bodyPr anchor="t">
            <a:normAutofit fontScale="89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Calibri"/>
              </a:rPr>
              <a:t>c. Obtención de información sobre instituciones financiera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atos de la institución financiera (nombre del banco o institución financiera, dirección de la filial en la que se mantiene la cuent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Número de cuent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ción del periodo en que se solicita la información. - Motivos para creer que la cuenta se encuentra en el Estado solicitado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Calibri"/>
              </a:rPr>
              <a:t>d. Obtención de datos telefónicos/de I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1. Información relativa a datos telefónico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ción del número de teléfon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formación relativa al propietario del número de teléfon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ción del periodo en el que se requieren los datos telefónico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2. Información relativa a datos de I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ción de la dirección IP, qué identificación de usuario se busca (cuando se conoce la dirección IP), de los registros de fecha y hora (día y hora del uso) y del nombre del ISP. - Indicación del nombre y la dirección del sospechoso (cuando se conoce, pero la dirección IP del usuario concreto no) y, si se conoce, la fecha y hora del uso y el nombre del IS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uando proced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Para datos de tráfico extendidos, información sobre el periodo buscado, para la que se utilizó la dirección IP </a:t>
            </a:r>
            <a:endParaRPr b="0" lang="en-US" sz="1600" spc="-1" strike="noStrike">
              <a:solidFill>
                <a:srgbClr val="000000"/>
              </a:solidFill>
              <a:latin typeface="Calibri"/>
            </a:endParaRPr>
          </a:p>
        </p:txBody>
      </p:sp>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5454C6-AE23-4251-B019-2219C72CF0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82600" y="192240"/>
            <a:ext cx="8578800" cy="5798880"/>
          </a:xfrm>
          <a:prstGeom prst="rect">
            <a:avLst/>
          </a:prstGeom>
          <a:noFill/>
          <a:ln w="0">
            <a:noFill/>
          </a:ln>
        </p:spPr>
        <p:txBody>
          <a:bodyPr anchor="t">
            <a:normAutofit fontScale="89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e. Realización de experienci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nformación sobre el experto buscado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ando proced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Lista de preguntas a formular por parte del experto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f. Interceptación de comunicacion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Cualquier información relevante sobre el estado de la persona y sobre el vínculo entre la medida y la investigación en curso relativa a los requisitos legales del Estado solicitant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ando proceda. .- Información sobre el plazo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g. Técnicas especiales de investigación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bservaciones transfronterizas: consulte el Anexo 1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trega controlada: consulte el Anexo 2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igaciones encubiertas: consulte el Anexo 3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quipos de investigación conjunta: consulte el Anexo 4 </a:t>
            </a:r>
            <a:endParaRPr b="0" lang="en-US" sz="2000" spc="-1" strike="noStrike">
              <a:solidFill>
                <a:srgbClr val="000000"/>
              </a:solidFill>
              <a:latin typeface="Calibri"/>
            </a:endParaRPr>
          </a:p>
        </p:txBody>
      </p:sp>
      <p:sp>
        <p:nvSpPr>
          <p:cNvPr id="14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6AF28E-9DA0-4735-A134-CC10C73EB6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14200" y="181080"/>
            <a:ext cx="8669520" cy="5945040"/>
          </a:xfrm>
          <a:prstGeom prst="rect">
            <a:avLst/>
          </a:prstGeom>
          <a:noFill/>
          <a:ln w="0">
            <a:noFill/>
          </a:ln>
        </p:spPr>
        <p:txBody>
          <a:bodyPr anchor="t">
            <a:normAutofit fontScale="92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ii. Modalidades específicas de ejecución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uando proceda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lidades y procedimientos necesarios al amparo de la legislación del Estado solicitante y directric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encia de funcionarios y otras personas relevantes implicadas del Estado solicitante y el nombre y puesto de dichas persona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licitud para realizar la vista/interrogatorio por parte de los oficial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lazo de ejecució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ordinación entre autoridades relevantes y competentes (personas de contact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stes (consulte la explicación en las directric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dioma a utilizar: indicación de los requisitos para mantener confidencial la existencia y el contenido de la solicitu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ción de las normas para garantizar la protección de dato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v. Modalidades para la transmisión de prueba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ción de si son necesarios los original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edios preferentes de transmisión a emplear por parte del Estado solicitado (servicio de mensajería, coordinador, representante diplomático, etc.)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vanzar copias</a:t>
            </a:r>
            <a:endParaRPr b="0" lang="en-US" sz="1800" spc="-1" strike="noStrike">
              <a:solidFill>
                <a:srgbClr val="000000"/>
              </a:solidFill>
              <a:latin typeface="Calibri"/>
            </a:endParaRPr>
          </a:p>
        </p:txBody>
      </p:sp>
      <p:sp>
        <p:nvSpPr>
          <p:cNvPr id="14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CB17D0-3E77-448D-9BDF-029C6DBAAD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46240"/>
            <a:ext cx="8229600" cy="6448320"/>
          </a:xfrm>
          <a:prstGeom prst="rect">
            <a:avLst/>
          </a:prstGeom>
          <a:noFill/>
          <a:ln w="0">
            <a:noFill/>
          </a:ln>
        </p:spPr>
        <p:txBody>
          <a:bodyPr anchor="t">
            <a:normAutofit fontScale="95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B. Servicio de documentos judiciales (órdenes judiciales y registros; citaciones como testigo/experto/acusado):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i. Información común para todas las solicitudes de servici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ipo de servicio requerid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specificación de los documentos a servir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uando sea aplicabl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formación sobre protección de testigo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oblemas de salvoconducto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Requisitos para la confirmación del servici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Requisitos si el servicio fall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probación de asunción de coste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ii. Información requerida para la comparecencia de las citacione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echa de comparecenci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Hora y lugar de la vist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uando sea aplicabl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echa alternativa de comparecencia; hora y lugar de la vist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stos aproximados a pagar y gastos de viaje y dietas reembolsable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Visa u otros requisitos de entrad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p:txBody>
      </p:sp>
      <p:sp>
        <p:nvSpPr>
          <p:cNvPr id="15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E8EFE3-3379-4FCA-8A0E-A24D71E056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26880" y="155160"/>
            <a:ext cx="8506080" cy="6380280"/>
          </a:xfrm>
          <a:prstGeom prst="rect">
            <a:avLst/>
          </a:prstGeom>
          <a:noFill/>
          <a:ln w="0">
            <a:noFill/>
          </a:ln>
        </p:spPr>
        <p:txBody>
          <a:bodyPr anchor="t">
            <a:normAutofit fontScale="98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 Transferencia provisional del una persona en custodi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ipo de transferencia: al Estado solicitante o solicitad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echas propuestas para la transferencia y devolución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Lugar de la transferenci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bjetivo de la transferencia (por ejemplo: testigos, confrontación)</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eclaración de consentimiento de la persona en cuestión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uando sea aplicabl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onfirmación de que la persona en cuestión permanecerá bajo custodi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ción de si se requiere transport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ersona o personas de contacto para la transferenci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 Extractos de los registros judiciale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Identificación de la persona de la que se solicita registro judicial.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uando sea aplicable: - Indicación de si la solicitud se realiza en un contexto no penal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 </a:t>
            </a:r>
            <a:r>
              <a:rPr b="1" lang="en-US" sz="1600" spc="-1" strike="noStrike">
                <a:solidFill>
                  <a:srgbClr val="000000"/>
                </a:solidFill>
                <a:latin typeface="Calibri"/>
              </a:rPr>
              <a:t>INFORMACIÓN FINAL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ualquier otra información que el Estado solicitante considere importante. - Persona de contacto (nombre, datos de contacto, idioma). - Lista de documentos adjunto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ello, nombre, puesto del funcionario, fecha y firma </a:t>
            </a:r>
            <a:endParaRPr b="0" lang="en-US" sz="1600" spc="-1" strike="noStrike">
              <a:solidFill>
                <a:srgbClr val="000000"/>
              </a:solidFill>
              <a:latin typeface="Calibri"/>
            </a:endParaRPr>
          </a:p>
        </p:txBody>
      </p:sp>
      <p:sp>
        <p:nvSpPr>
          <p:cNvPr id="15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B142EB-8F15-4658-931D-F83B0498D1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MS PGothic"/>
              </a:rPr>
              <a:t>Primera parte</a:t>
            </a:r>
            <a:br>
              <a:rPr sz="3200"/>
            </a:br>
            <a:r>
              <a:rPr b="1" lang="en-US" sz="3200" spc="-1" strike="noStrike">
                <a:solidFill>
                  <a:srgbClr val="000000"/>
                </a:solidFill>
                <a:latin typeface="Calibri"/>
                <a:ea typeface="MS PGothic"/>
              </a:rPr>
              <a:t>Principios generales de la asistencia legal mutua</a:t>
            </a:r>
            <a:endParaRPr b="0" lang="en-US" sz="32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06A9BCD-63BE-4C05-95C9-1268029953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82240" y="579240"/>
            <a:ext cx="8545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Entre los requisitos comunes frecuentes (con o sin tratado) se incluyen: </a:t>
            </a:r>
            <a:endParaRPr b="0" lang="en-US" sz="4000" spc="-1" strike="noStrike">
              <a:solidFill>
                <a:srgbClr val="000000"/>
              </a:solidFill>
              <a:latin typeface="Calibri"/>
            </a:endParaRPr>
          </a:p>
        </p:txBody>
      </p:sp>
      <p:sp>
        <p:nvSpPr>
          <p:cNvPr id="154" name=""/>
          <p:cNvSpPr txBox="1"/>
          <p:nvPr/>
        </p:nvSpPr>
        <p:spPr>
          <a:xfrm>
            <a:off x="457200" y="21193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mbre, puesto, sello y firma de la autoridad solicitant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ase legal para la solicitud (tratado internacional/convención o reciprocidad)</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rco de trabajo legal en el Estado solicitante (nombre del sospechoso, cualificaciones legales de los delitos y provisiones relevantes, incluyendo pena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umen de los hechos</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edidas específicas buscada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5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DE2CB0-772F-4FE2-91CA-B3D9DD2B93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Base legal de la solicitud de MLA</a:t>
            </a:r>
            <a:endParaRPr b="0" lang="en-US" sz="4400" spc="-1" strike="noStrike">
              <a:solidFill>
                <a:srgbClr val="000000"/>
              </a:solidFill>
              <a:latin typeface="Calibri"/>
            </a:endParaRPr>
          </a:p>
        </p:txBody>
      </p:sp>
      <p:sp>
        <p:nvSpPr>
          <p:cNvPr id="157" name=""/>
          <p:cNvSpPr txBox="1"/>
          <p:nvPr/>
        </p:nvSpPr>
        <p:spPr>
          <a:xfrm>
            <a:off x="457200" y="1471320"/>
            <a:ext cx="8229600" cy="495756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o otros tratados y convenciones bilaterales o multilaterales, </a:t>
            </a:r>
            <a:r>
              <a:rPr b="1" lang="en-US" sz="2800" spc="-1" strike="noStrike" u="sng">
                <a:solidFill>
                  <a:srgbClr val="000000"/>
                </a:solidFill>
                <a:uFillTx/>
                <a:latin typeface="Calibri"/>
              </a:rPr>
              <a:t>el Convenio de Budapest </a:t>
            </a:r>
            <a:r>
              <a:rPr b="1" lang="en-US" sz="2800" spc="-1" strike="noStrike">
                <a:solidFill>
                  <a:srgbClr val="000000"/>
                </a:solidFill>
                <a:latin typeface="Calibri"/>
              </a:rPr>
              <a:t>puede utilizarse como base legal para las solicitudes de MLA relativas a ciberdelincuencia, así como para la recogida de pruebas en cualquier caso penal</a:t>
            </a:r>
            <a:endParaRPr b="0" lang="en-US" sz="2800" spc="-1" strike="noStrike">
              <a:solidFill>
                <a:srgbClr val="000000"/>
              </a:solidFill>
              <a:latin typeface="Calibri"/>
            </a:endParaRPr>
          </a:p>
          <a:p>
            <a:pPr marL="332640" indent="-3326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rPr>
              <a:t>ART. 25.1 del Convenio de Budapest:</a:t>
            </a:r>
            <a:endParaRPr b="0" lang="en-US" sz="24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Cuando no exista tratado ni acuerdo de asistencia mutua sobre la base de la legislación uniforme o recíproca vigente entre las Partes solicitante y solicitada, serán de aplicación las provisiones de los párrafos 2 al 9 de este artículo. Las provisiones de este artículo no serán de aplicación cuando exista tratado, acuerdo o legislación, a menos que las Partes implicadas acuerden aplicar cualquiera o todos los restantes en lugar de los mismo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15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D0343D1-F8F3-4E8B-8CE1-5670BD56AA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6560" y="525600"/>
            <a:ext cx="8754840" cy="148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a comunicación es tan importante como la propia solicitud: </a:t>
            </a:r>
            <a:br>
              <a:rPr sz="4400"/>
            </a:br>
            <a:endParaRPr b="0" lang="en-US" sz="4400" spc="-1" strike="noStrike">
              <a:solidFill>
                <a:srgbClr val="000000"/>
              </a:solidFill>
              <a:latin typeface="Calibri"/>
            </a:endParaRPr>
          </a:p>
        </p:txBody>
      </p:sp>
      <p:sp>
        <p:nvSpPr>
          <p:cNvPr id="160" name=""/>
          <p:cNvSpPr txBox="1"/>
          <p:nvPr/>
        </p:nvSpPr>
        <p:spPr>
          <a:xfrm>
            <a:off x="460440" y="1828440"/>
            <a:ext cx="8229600" cy="44672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ombre y puesto mencionado </a:t>
            </a:r>
            <a:r>
              <a:rPr b="0" lang="en-US" sz="2400" spc="-1" strike="noStrike" u="sng">
                <a:solidFill>
                  <a:srgbClr val="000000"/>
                </a:solidFill>
                <a:uFillTx/>
                <a:latin typeface="Calibri"/>
              </a:rPr>
              <a:t>claramente</a:t>
            </a:r>
            <a:r>
              <a:rPr b="0" lang="en-US" sz="2400" spc="-1" strike="noStrike">
                <a:solidFill>
                  <a:srgbClr val="000000"/>
                </a:solidFill>
                <a:latin typeface="Calibri"/>
              </a:rPr>
              <a:t> (no solo la firma y el sell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formación de contacto (dirección de correo electrónico, número de teléfono, zona horari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diomas hablados </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a:solidFill>
                  <a:srgbClr val="000000"/>
                </a:solidFill>
                <a:latin typeface="Calibri"/>
              </a:rPr>
              <a:t>Si la autoridad encargada de la ejecución tiene una pregunta o un problema y no comprende sus expectativas, podrá dar una respuesta clara y rápida, evitando la redacción de una nueva solicitud de MLA completa</a:t>
            </a:r>
            <a:endParaRPr b="0" lang="en-US" sz="2400" spc="-1" strike="noStrike">
              <a:solidFill>
                <a:srgbClr val="000000"/>
              </a:solidFill>
              <a:latin typeface="Calibri"/>
            </a:endParaRPr>
          </a:p>
        </p:txBody>
      </p:sp>
      <p:sp>
        <p:nvSpPr>
          <p:cNvPr id="16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306D372-E7A0-4219-BFE2-CA837B9ED9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 de los hechos</a:t>
            </a:r>
            <a:endParaRPr b="0" lang="en-US" sz="4400" spc="-1" strike="noStrike">
              <a:solidFill>
                <a:srgbClr val="000000"/>
              </a:solidFill>
              <a:latin typeface="Calibri"/>
            </a:endParaRPr>
          </a:p>
        </p:txBody>
      </p:sp>
      <p:sp>
        <p:nvSpPr>
          <p:cNvPr id="163" name=""/>
          <p:cNvSpPr txBox="1"/>
          <p:nvPr/>
        </p:nvSpPr>
        <p:spPr>
          <a:xfrm>
            <a:off x="271440" y="1252440"/>
            <a:ext cx="8702640" cy="5408640"/>
          </a:xfrm>
          <a:prstGeom prst="rect">
            <a:avLst/>
          </a:prstGeom>
          <a:noFill/>
          <a:ln w="0">
            <a:noFill/>
          </a:ln>
        </p:spPr>
        <p:txBody>
          <a:bodyPr anchor="t">
            <a:normAutofit/>
          </a:bodyPr>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enga siempre presente que la autoridad solicitada no conoce su caso durante la explicación de los hechos e investigaciones necesarias</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 escriba nunca de forma demasiado concluyente </a:t>
            </a:r>
            <a:r>
              <a:rPr b="0" i="1" lang="en-US" sz="2000" spc="-1" strike="noStrike">
                <a:solidFill>
                  <a:srgbClr val="000000"/>
                </a:solidFill>
                <a:latin typeface="Calibri"/>
              </a:rPr>
              <a:t>(por ejemplo "las investigaciones para la identificación del Sr. X": explique). </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lgunos Estados se ejecutarán fácilmente casi cualquier cosa que solicite</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lgunos Estados incluso realizarán una comprobación dual de criminalidad para ciertos tipos de investigación (o si no se aplica tratado/convención)</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lgunos estados solicitarán elementos complementarios para acometer las medidas coactivas (por ejemplo, la causa probable en los EE.UU. y el certificado en Hong Kong)</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6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AA3F850-265A-4F1F-B92A-2A751D304A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440" y="355680"/>
            <a:ext cx="870264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iertos Estados exigirán información específica del contenido:</a:t>
            </a:r>
            <a:endParaRPr b="0" lang="en-US" sz="3600" spc="-1" strike="noStrike">
              <a:solidFill>
                <a:srgbClr val="000000"/>
              </a:solidFill>
              <a:latin typeface="Calibri"/>
            </a:endParaRPr>
          </a:p>
        </p:txBody>
      </p:sp>
      <p:sp>
        <p:nvSpPr>
          <p:cNvPr id="166" name=""/>
          <p:cNvSpPr txBox="1"/>
          <p:nvPr/>
        </p:nvSpPr>
        <p:spPr>
          <a:xfrm>
            <a:off x="271440" y="1449360"/>
            <a:ext cx="8702640" cy="5089680"/>
          </a:xfrm>
          <a:prstGeom prst="rect">
            <a:avLst/>
          </a:prstGeom>
          <a:noFill/>
          <a:ln w="0">
            <a:noFill/>
          </a:ln>
        </p:spPr>
        <p:txBody>
          <a:bodyPr anchor="t">
            <a:norm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Ejemplo del estándar de "causa probable" en EE.UU.: </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Trebuchet MS"/>
              </a:rPr>
              <a:t>«Un</a:t>
            </a:r>
            <a:r>
              <a:rPr b="0" lang="en-US" sz="2000" spc="-1" strike="noStrike">
                <a:solidFill>
                  <a:srgbClr val="000000"/>
                </a:solidFill>
                <a:latin typeface="Calibri"/>
              </a:rPr>
              <a:t> </a:t>
            </a:r>
            <a:r>
              <a:rPr b="1" i="1" lang="en-US" sz="2000" spc="-1" strike="noStrike" u="sng">
                <a:solidFill>
                  <a:srgbClr val="000000"/>
                </a:solidFill>
                <a:uFillTx/>
                <a:latin typeface="Trebuchet MS"/>
              </a:rPr>
              <a:t>motivo razonable para sospechar que una persona ha cometido o está cometiendo un delito o que un lugar contiene elementos específicos relacionados con un delito»</a:t>
            </a:r>
            <a:r>
              <a:rPr b="0" lang="en-US" sz="2000" spc="-1" strike="noStrike">
                <a:solidFill>
                  <a:srgbClr val="000000"/>
                </a:solidFill>
                <a:latin typeface="Calibri"/>
              </a:rPr>
              <a:t> </a:t>
            </a:r>
            <a:r>
              <a:rPr b="0" i="1" lang="en-US" sz="2000" spc="-1" strike="noStrike">
                <a:solidFill>
                  <a:srgbClr val="000000"/>
                </a:solidFill>
                <a:latin typeface="Trebuchet MS"/>
              </a:rPr>
              <a:t>(diccionario de derecho de Black)</a:t>
            </a: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a solicitud de MLA </a:t>
            </a:r>
            <a:r>
              <a:rPr b="1" lang="en-US" sz="2000" spc="-1" strike="noStrike" u="sng">
                <a:solidFill>
                  <a:srgbClr val="000000"/>
                </a:solidFill>
                <a:uFillTx/>
                <a:latin typeface="Calibri"/>
              </a:rPr>
              <a:t>debe</a:t>
            </a:r>
            <a:r>
              <a:rPr b="1" lang="en-US" sz="2000" spc="-1" strike="noStrike">
                <a:solidFill>
                  <a:srgbClr val="000000"/>
                </a:solidFill>
                <a:latin typeface="Calibri"/>
              </a:rPr>
              <a:t> ofrecer la siguiente información:</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l tipo de datos a incautar</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otivo por el que se relaciona con el delito penal que se está investigando (vínculo con el presunto perpetrador y con el crimen)</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bablemente, los datos se encuentren donde se realizará la búsqueda (no olvide mencionar cualquier solicitud de conservación previa realizada al amparo del Convenio de Budapest)</a:t>
            </a:r>
            <a:endParaRPr b="0" lang="en-US" sz="2000" spc="-1" strike="noStrike">
              <a:solidFill>
                <a:srgbClr val="000000"/>
              </a:solidFill>
              <a:latin typeface="Calibri"/>
            </a:endParaRPr>
          </a:p>
        </p:txBody>
      </p:sp>
      <p:sp>
        <p:nvSpPr>
          <p:cNvPr id="16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248BC1-149D-4A63-88C9-0D801D7C1A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457200" y="1600200"/>
            <a:ext cx="8229600" cy="4235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169" name=""/>
          <p:cNvGraphicFramePr/>
          <p:nvPr/>
        </p:nvGraphicFramePr>
        <p:xfrm>
          <a:off x="611280" y="1628640"/>
          <a:ext cx="8067600" cy="4056120"/>
        </p:xfrm>
        <a:graphic>
          <a:graphicData uri="http://schemas.openxmlformats.org/drawingml/2006/table">
            <a:tbl>
              <a:tblPr/>
              <a:tblGrid>
                <a:gridCol w="4035240"/>
                <a:gridCol w="4032360"/>
              </a:tblGrid>
              <a:tr h="863640">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d0d0d"/>
                          </a:solidFill>
                          <a:latin typeface="Book Antiqua"/>
                          <a:ea typeface="MS Gothic"/>
                        </a:rPr>
                        <a:t>TIPO DE DATOS SOLICITAD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d0d0d"/>
                          </a:solidFill>
                          <a:latin typeface="Book Antiqua"/>
                          <a:ea typeface="MS Gothic"/>
                        </a:rPr>
                        <a:t> </a:t>
                      </a:r>
                      <a:r>
                        <a:rPr b="1" lang="en-US" sz="1800" spc="-1" strike="noStrike">
                          <a:solidFill>
                            <a:srgbClr val="0d0d0d"/>
                          </a:solidFill>
                          <a:latin typeface="Book Antiqua"/>
                          <a:ea typeface="MS Gothic"/>
                        </a:rPr>
                        <a:t>ESTÁNDAR LEGAL DE EE.U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r>
              <a:tr h="97488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Información del suscrip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a:t>
                      </a:r>
                      <a:r>
                        <a:rPr b="0" i="1" lang="en-US" sz="1800" spc="-1" strike="noStrike">
                          <a:solidFill>
                            <a:srgbClr val="000000"/>
                          </a:solidFill>
                          <a:latin typeface="Book Antiqua"/>
                          <a:ea typeface="MS Gothic"/>
                        </a:rPr>
                        <a:t>relevancia</a:t>
                      </a:r>
                      <a:r>
                        <a:rPr b="0" lang="en-US" sz="1800" spc="-1" strike="noStrike">
                          <a:solidFill>
                            <a:srgbClr val="000000"/>
                          </a:solidFill>
                          <a:latin typeface="Book Antiqua"/>
                          <a:ea typeface="MS Gothic"/>
                        </a:rPr>
                        <a:t>"  y "relación" entre la prueba buscada y la investigación pe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124596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Información transacc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Entre "</a:t>
                      </a:r>
                      <a:r>
                        <a:rPr b="0" i="1" lang="en-US" sz="1800" spc="-1" strike="noStrike">
                          <a:solidFill>
                            <a:srgbClr val="000000"/>
                          </a:solidFill>
                          <a:latin typeface="Book Antiqua"/>
                          <a:ea typeface="MS Gothic"/>
                        </a:rPr>
                        <a:t>relevancia</a:t>
                      </a:r>
                      <a:r>
                        <a:rPr b="0" lang="en-US" sz="1800" spc="-1" strike="noStrike">
                          <a:solidFill>
                            <a:srgbClr val="000000"/>
                          </a:solidFill>
                          <a:latin typeface="Book Antiqua"/>
                          <a:ea typeface="MS Gothic"/>
                        </a:rPr>
                        <a:t>" y </a:t>
                      </a:r>
                      <a:r>
                        <a:rPr b="0" i="1" lang="en-US" sz="1800" spc="-1" strike="noStrike">
                          <a:solidFill>
                            <a:srgbClr val="000000"/>
                          </a:solidFill>
                          <a:latin typeface="Book Antiqua"/>
                          <a:ea typeface="MS Gothic"/>
                        </a:rPr>
                        <a:t>causa probable</a:t>
                      </a:r>
                      <a:r>
                        <a:rPr b="0" lang="en-US" sz="1800" spc="-1" strike="noStrike">
                          <a:solidFill>
                            <a:srgbClr val="000000"/>
                          </a:solidFill>
                          <a:latin typeface="Book Antiqua"/>
                          <a:ea typeface="MS Gothic"/>
                        </a:rPr>
                        <a:t>": los datos deben ser relevantes y el materiales para la investigación pe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7164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Conteni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a:t>
                      </a:r>
                      <a:r>
                        <a:rPr b="0" i="1" lang="en-US" sz="1800" spc="-1" strike="noStrike">
                          <a:solidFill>
                            <a:srgbClr val="000000"/>
                          </a:solidFill>
                          <a:latin typeface="Book Antiqua"/>
                          <a:ea typeface="MS Gothic"/>
                        </a:rPr>
                        <a:t>causa probable</a:t>
                      </a:r>
                      <a:r>
                        <a:rPr b="0" lang="en-US" sz="1800" spc="-1" strike="noStrike">
                          <a:solidFill>
                            <a:srgbClr val="000000"/>
                          </a:solidFill>
                          <a:latin typeface="Book Antiqua"/>
                          <a:ea typeface="MS Gothic"/>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170" name="ZoneTexte 1"/>
          <p:cNvSpPr/>
          <p:nvPr/>
        </p:nvSpPr>
        <p:spPr>
          <a:xfrm>
            <a:off x="998640" y="244440"/>
            <a:ext cx="7146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ESTÁNDARES LEGALES DE EE.UU. A CUMPLIR EN EL RESUMEN DE HECHOS: </a:t>
            </a:r>
            <a:endParaRPr b="0" lang="en-US" sz="2800" spc="-1" strike="noStrike">
              <a:solidFill>
                <a:srgbClr val="000000"/>
              </a:solidFill>
              <a:latin typeface="Arial"/>
            </a:endParaRPr>
          </a:p>
        </p:txBody>
      </p:sp>
      <p:sp>
        <p:nvSpPr>
          <p:cNvPr id="17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A1F159-1DA9-47BA-B3E1-A9384C0BDA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9920" y="151920"/>
            <a:ext cx="8567640" cy="58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solicitadas en la MLA</a:t>
            </a:r>
            <a:endParaRPr b="0" lang="en-US" sz="4400" spc="-1" strike="noStrike">
              <a:solidFill>
                <a:srgbClr val="000000"/>
              </a:solidFill>
              <a:latin typeface="Calibri"/>
            </a:endParaRPr>
          </a:p>
        </p:txBody>
      </p:sp>
      <p:sp>
        <p:nvSpPr>
          <p:cNvPr id="173" name=""/>
          <p:cNvSpPr txBox="1"/>
          <p:nvPr/>
        </p:nvSpPr>
        <p:spPr>
          <a:xfrm>
            <a:off x="140760" y="898560"/>
            <a:ext cx="8842680" cy="5330880"/>
          </a:xfrm>
          <a:prstGeom prst="rect">
            <a:avLst/>
          </a:prstGeom>
          <a:noFill/>
          <a:ln w="0">
            <a:noFill/>
          </a:ln>
        </p:spPr>
        <p:txBody>
          <a:bodyPr anchor="t">
            <a:normAutofit fontScale="88000"/>
          </a:bodyPr>
          <a:p>
            <a:pPr marL="301680" indent="-301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Solicitar todas las medidas que pudieran ordenarse en su sistema legal y que parezcan de utilidad para su caso penal</a:t>
            </a:r>
            <a:endParaRPr b="0" lang="en-US" sz="2000" spc="-1" strike="noStrike">
              <a:solidFill>
                <a:srgbClr val="000000"/>
              </a:solidFill>
              <a:latin typeface="Calibri"/>
            </a:endParaRPr>
          </a:p>
          <a:p>
            <a:pPr marL="301680" indent="-3016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01680" indent="-301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encionar la confidencialidad en caso necesario: NO se trata de un principio fundamental en todos los Estados </a:t>
            </a:r>
            <a:r>
              <a:rPr b="0" lang="en-US" sz="2000" spc="-1" strike="noStrike">
                <a:solidFill>
                  <a:srgbClr val="000000"/>
                </a:solidFill>
                <a:latin typeface="Calibri"/>
              </a:rPr>
              <a:t>(</a:t>
            </a:r>
            <a:r>
              <a:rPr b="0" i="1" lang="en-US" sz="2000" spc="-1" strike="noStrike">
                <a:solidFill>
                  <a:srgbClr val="000000"/>
                </a:solidFill>
                <a:latin typeface="Calibri"/>
              </a:rPr>
              <a:t>por ejemplo, en EE.UU.) – Nota: ART. 28 del Convenio de Budapest</a:t>
            </a:r>
            <a:endParaRPr b="0" lang="en-US" sz="2000" spc="-1" strike="noStrike">
              <a:solidFill>
                <a:srgbClr val="000000"/>
              </a:solidFill>
              <a:latin typeface="Calibri"/>
            </a:endParaRPr>
          </a:p>
          <a:p>
            <a:pPr marL="301680" indent="-301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01680" indent="-301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Especificar cualquier urgencia </a:t>
            </a:r>
            <a:r>
              <a:rPr b="0" i="1" lang="en-US" sz="2000" spc="-1" strike="noStrike">
                <a:solidFill>
                  <a:srgbClr val="000000"/>
                </a:solidFill>
                <a:latin typeface="Calibri"/>
              </a:rPr>
              <a:t>(por ejemplo, detención antes de juicio, plazos específicos, …)</a:t>
            </a:r>
            <a:endParaRPr b="0" lang="en-US" sz="2000" spc="-1" strike="noStrike">
              <a:solidFill>
                <a:srgbClr val="000000"/>
              </a:solidFill>
              <a:latin typeface="Calibri"/>
            </a:endParaRPr>
          </a:p>
          <a:p>
            <a:pPr lvl="1" marL="653760" indent="-2512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01680" indent="-301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Sea lo más específico posible</a:t>
            </a:r>
            <a:endParaRPr b="0" lang="en-US" sz="2000" spc="-1" strike="noStrike">
              <a:solidFill>
                <a:srgbClr val="000000"/>
              </a:solidFill>
              <a:latin typeface="Calibri"/>
            </a:endParaRPr>
          </a:p>
          <a:p>
            <a:pPr lvl="1" marL="653760" indent="-2512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 Por ejemplo:  especifique el lugar a buscar, qué datos se buscan, especifique las fechas y la hora de una dirección IP a identificar (registro de fecha y hora)</a:t>
            </a:r>
            <a:endParaRPr b="0" lang="en-US" sz="2000" spc="-1" strike="noStrike">
              <a:solidFill>
                <a:srgbClr val="000000"/>
              </a:solidFill>
              <a:latin typeface="Calibri"/>
            </a:endParaRPr>
          </a:p>
          <a:p>
            <a:pPr lvl="1" marL="653760" indent="-2512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01680" indent="-301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Especifique cualquier procedimiento particular</a:t>
            </a:r>
            <a:r>
              <a:rPr b="0" lang="en-US" sz="2000" spc="-1" strike="noStrike">
                <a:solidFill>
                  <a:srgbClr val="000000"/>
                </a:solidFill>
                <a:latin typeface="Calibri"/>
              </a:rPr>
              <a:t> que deba implementarse para la regularidad de la medida solicitada; de lo contrario, el Estado solicitante ejecutará el MLA de acuerdo con su propia legislación nacional. </a:t>
            </a:r>
            <a:endParaRPr b="0" lang="en-US" sz="2000" spc="-1" strike="noStrike">
              <a:solidFill>
                <a:srgbClr val="000000"/>
              </a:solidFill>
              <a:latin typeface="Calibri"/>
            </a:endParaRPr>
          </a:p>
          <a:p>
            <a:pPr lvl="1" marL="653760" indent="-2512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Por ejemplo: testigos con juramento específico, tipo de copia y protección precisa para datos electrónicos o dispositivo)</a:t>
            </a:r>
            <a:endParaRPr b="0" lang="en-US" sz="2000" spc="-1" strike="noStrike">
              <a:solidFill>
                <a:srgbClr val="000000"/>
              </a:solidFill>
              <a:latin typeface="Calibri"/>
            </a:endParaRPr>
          </a:p>
          <a:p>
            <a:pPr marL="301680" indent="-3016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17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7A9488C-342F-4A11-8BE0-90DFB854E1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360"/>
            <a:ext cx="8842320" cy="584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Qué </a:t>
            </a:r>
            <a:r>
              <a:rPr b="1" lang="en-US" sz="3200" spc="-1" strike="noStrike">
                <a:solidFill>
                  <a:srgbClr val="000000"/>
                </a:solidFill>
                <a:latin typeface="Calibri"/>
              </a:rPr>
              <a:t>debe/puede</a:t>
            </a:r>
            <a:r>
              <a:rPr b="1" lang="en-US" sz="3600" spc="-1" strike="noStrike">
                <a:solidFill>
                  <a:srgbClr val="000000"/>
                </a:solidFill>
                <a:latin typeface="Calibri"/>
              </a:rPr>
              <a:t> adjuntarse a la MLA?</a:t>
            </a:r>
            <a:endParaRPr b="0" lang="en-US" sz="3600" spc="-1" strike="noStrike">
              <a:solidFill>
                <a:srgbClr val="000000"/>
              </a:solidFill>
              <a:latin typeface="Calibri"/>
            </a:endParaRPr>
          </a:p>
        </p:txBody>
      </p:sp>
      <p:sp>
        <p:nvSpPr>
          <p:cNvPr id="176" name=""/>
          <p:cNvSpPr txBox="1"/>
          <p:nvPr/>
        </p:nvSpPr>
        <p:spPr>
          <a:xfrm>
            <a:off x="122400" y="771480"/>
            <a:ext cx="8842320" cy="5315040"/>
          </a:xfrm>
          <a:prstGeom prst="rect">
            <a:avLst/>
          </a:prstGeom>
          <a:noFill/>
          <a:ln w="0">
            <a:noFill/>
          </a:ln>
        </p:spPr>
        <p:txBody>
          <a:bodyPr anchor="t">
            <a:normAutofit fontScale="95000"/>
          </a:bodyPr>
          <a:p>
            <a:pPr marL="325800" indent="-32580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Qué DEBE adjuntarse:</a:t>
            </a:r>
            <a:endParaRPr b="0" lang="en-US" sz="1900" spc="-1" strike="noStrike">
              <a:solidFill>
                <a:srgbClr val="000000"/>
              </a:solidFill>
              <a:latin typeface="Calibri"/>
            </a:endParaRPr>
          </a:p>
          <a:p>
            <a:pPr lvl="1" marL="705600" indent="-271440">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Lo que requiera la convención o tratado aplicable (incluyendo generalmente, identidad y función de la autoridad solicitante, resumen de los hechos y cualificaciones y provisiones legales y provisiones relativas a las pena en las que se ha incurrido) </a:t>
            </a:r>
            <a:endParaRPr b="0" lang="en-US" sz="1900" spc="-1" strike="noStrike">
              <a:solidFill>
                <a:srgbClr val="000000"/>
              </a:solidFill>
              <a:latin typeface="Calibri"/>
            </a:endParaRPr>
          </a:p>
          <a:p>
            <a:pPr lvl="1" marL="705600" indent="-271440">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En ocasiones, las convenciones o tratados requieren una lista de preguntas para interrogatorios</a:t>
            </a:r>
            <a:endParaRPr b="0" lang="en-US" sz="1900" spc="-1" strike="noStrike">
              <a:solidFill>
                <a:srgbClr val="000000"/>
              </a:solidFill>
              <a:latin typeface="Calibri"/>
            </a:endParaRPr>
          </a:p>
          <a:p>
            <a:pPr lvl="1" marL="705600" indent="-271440">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Traducción, cuando proceda (incluyendo los documentos adjuntos y estipulaciones)</a:t>
            </a:r>
            <a:endParaRPr b="0" lang="en-US" sz="1900" spc="-1" strike="noStrike">
              <a:solidFill>
                <a:srgbClr val="000000"/>
              </a:solidFill>
              <a:latin typeface="Calibri"/>
            </a:endParaRPr>
          </a:p>
          <a:p>
            <a:pPr lvl="1" marL="705600" indent="-271440">
              <a:spcBef>
                <a:spcPts val="47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Calibri"/>
            </a:endParaRPr>
          </a:p>
          <a:p>
            <a:pPr marL="325800" indent="-32580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Qué PUEDE adjuntarse:</a:t>
            </a:r>
            <a:endParaRPr b="0" lang="en-US" sz="1900" spc="-1" strike="noStrike">
              <a:solidFill>
                <a:srgbClr val="000000"/>
              </a:solidFill>
              <a:latin typeface="Calibri"/>
            </a:endParaRPr>
          </a:p>
          <a:p>
            <a:pPr lvl="1" marL="705600" indent="-271440">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Lo que resulte útil para que la autoridad solicitada comprenda lo que se busca (por ejemplo, copias de órdenes bancarias falsas, interrogatorios, correos electrónicos sospechosos, ...)</a:t>
            </a:r>
            <a:endParaRPr b="0" lang="en-US" sz="1900" spc="-1" strike="noStrike">
              <a:solidFill>
                <a:srgbClr val="000000"/>
              </a:solidFill>
              <a:latin typeface="Calibri"/>
            </a:endParaRPr>
          </a:p>
          <a:p>
            <a:pPr lvl="1" marL="705600" indent="-271440">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Orden de producción nacional u orden de búsqueda si existiera (no siempre necesaria)</a:t>
            </a:r>
            <a:endParaRPr b="0" lang="en-US" sz="1900" spc="-1" strike="noStrike">
              <a:solidFill>
                <a:srgbClr val="000000"/>
              </a:solidFill>
              <a:latin typeface="Calibri"/>
            </a:endParaRPr>
          </a:p>
          <a:p>
            <a:pPr lvl="1" marL="705600" indent="-271440">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Estipulaciones jurídicas nacionales relativas a poderes específicos </a:t>
            </a:r>
            <a:r>
              <a:rPr b="0" i="1" lang="en-US" sz="1900" spc="-1" strike="noStrike">
                <a:solidFill>
                  <a:srgbClr val="000000"/>
                </a:solidFill>
                <a:latin typeface="Calibri"/>
              </a:rPr>
              <a:t>(por ejemplo, investigaciones judiciales no siempre bien conocidas en algunos países)</a:t>
            </a:r>
            <a:endParaRPr b="0" lang="en-US" sz="1900" spc="-1" strike="noStrike">
              <a:solidFill>
                <a:srgbClr val="000000"/>
              </a:solidFill>
              <a:latin typeface="Calibri"/>
            </a:endParaRPr>
          </a:p>
        </p:txBody>
      </p:sp>
      <p:sp>
        <p:nvSpPr>
          <p:cNvPr id="17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7E5151B-8696-4BC3-A6AB-D59CE2DFBD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17440" y="274320"/>
            <a:ext cx="8469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Modos rápidos de transmitir una solicitud de MLA:</a:t>
            </a:r>
            <a:endParaRPr b="0" lang="en-US" sz="40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uando es necesaria la solicitud original, la mayoría de los tratados o convenciones cuentan con un procedimiento de transmisión específico para asuntos urgentes.</a:t>
            </a:r>
            <a:endParaRPr b="0" lang="en-US" sz="2800" spc="-1" strike="noStrike">
              <a:solidFill>
                <a:srgbClr val="000000"/>
              </a:solidFill>
              <a:latin typeface="Calibri"/>
            </a:endParaRPr>
          </a:p>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a buena práctica común orientada específicamente a la recogida de pruebas electrónicas es el uso de copias anticipadas por correo electrónico, directamente entre autoridades judiciales o entre autoridades centrales. </a:t>
            </a:r>
            <a:endParaRPr b="0" lang="en-US" sz="28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RT. 25.3 del Convenio de Budapest</a:t>
            </a:r>
            <a:endParaRPr b="0" lang="en-US" sz="2400" spc="-1" strike="noStrike">
              <a:solidFill>
                <a:srgbClr val="000000"/>
              </a:solidFill>
              <a:latin typeface="Calibri"/>
            </a:endParaRPr>
          </a:p>
        </p:txBody>
      </p:sp>
      <p:sp>
        <p:nvSpPr>
          <p:cNvPr id="18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D906433-A459-4F32-8AEF-122EC8AB8E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 25,3 del Convenio de Budapest</a:t>
            </a:r>
            <a:endParaRPr b="0" lang="en-US" sz="4400" spc="-1" strike="noStrike">
              <a:solidFill>
                <a:srgbClr val="000000"/>
              </a:solidFill>
              <a:latin typeface="Calibri"/>
            </a:endParaRPr>
          </a:p>
        </p:txBody>
      </p:sp>
      <p:sp>
        <p:nvSpPr>
          <p:cNvPr id="182" name=""/>
          <p:cNvSpPr txBox="1"/>
          <p:nvPr/>
        </p:nvSpPr>
        <p:spPr>
          <a:xfrm>
            <a:off x="366840" y="2097000"/>
            <a:ext cx="822960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Cada parte puede, en circunstancias de urgencia, realizar solicitudes de asistencia mutua o comunicaciones relativas a estas por medios de comunicación rápidos, incluyendo el fax o el correo electrónico, en la medida en que dichos medios ofrezcan los niveles adecuados de seguridad y autentificación (incluyendo el uso de cifrado, cuando sea necesario), con confirmación formal de seguimiento, cuando lo exija la Parte solicitada. La Parte solicitada aceptará y responderá a la solicitud por medio de cualquiera de estos medio de comunicación rápidos.</a:t>
            </a:r>
            <a:endParaRPr b="0" lang="en-US" sz="2400" spc="-1" strike="noStrike">
              <a:solidFill>
                <a:srgbClr val="000000"/>
              </a:solidFill>
              <a:latin typeface="Calibri"/>
            </a:endParaRPr>
          </a:p>
        </p:txBody>
      </p:sp>
      <p:sp>
        <p:nvSpPr>
          <p:cNvPr id="18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3F8CA9-D167-49B3-AF84-CD270DE74C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93760" y="274320"/>
            <a:ext cx="8393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ómo definir la asistencia legal mutua internacional?</a:t>
            </a:r>
            <a:endParaRPr b="0" lang="en-US" sz="4400" spc="-1" strike="noStrike">
              <a:solidFill>
                <a:srgbClr val="000000"/>
              </a:solidFill>
              <a:latin typeface="Calibri"/>
            </a:endParaRPr>
          </a:p>
        </p:txBody>
      </p:sp>
      <p:sp>
        <p:nvSpPr>
          <p:cNvPr id="62" name=""/>
          <p:cNvSpPr txBox="1"/>
          <p:nvPr/>
        </p:nvSpPr>
        <p:spPr>
          <a:xfrm>
            <a:off x="457200" y="1839600"/>
            <a:ext cx="8229600" cy="44211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internacional, decisión únic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pende del marco de trabajo legal de cada paí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be distinguirse de la cooperación policial, aunque es complementaria</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ebe definirse como cualquier medio legal orientado a conseguir una persona, información, documento o cualquier elemento de prueba necesaria para un caso judicial y lo que se encuentra fuera del alcance, debido a que está ubicado en otro país, bajo la autoridad de otro estado.</a:t>
            </a:r>
            <a:endParaRPr b="0" lang="en-US" sz="24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D765A06-3DE9-40A1-AEDA-76601A1FA9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8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reguntas</a:t>
            </a:r>
            <a:endParaRPr b="0" lang="en-US" sz="5400" spc="-1" strike="noStrike">
              <a:solidFill>
                <a:srgbClr val="000000"/>
              </a:solidFill>
              <a:latin typeface="Arial"/>
            </a:endParaRPr>
          </a:p>
        </p:txBody>
      </p:sp>
      <p:sp>
        <p:nvSpPr>
          <p:cNvPr id="18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694817-E3F6-41A6-9ECB-BCC87EC918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MS PGothic"/>
              </a:rPr>
              <a:t>Cuarta parte</a:t>
            </a:r>
            <a:br>
              <a:rPr sz="3200"/>
            </a:br>
            <a:r>
              <a:rPr b="1" lang="en-US" sz="3200" spc="-1" strike="noStrike">
                <a:solidFill>
                  <a:srgbClr val="000000"/>
                </a:solidFill>
                <a:latin typeface="Calibri"/>
                <a:ea typeface="MS PGothic"/>
              </a:rPr>
              <a:t>Recepción de una solicitud de MLA</a:t>
            </a:r>
            <a:endParaRPr b="0" lang="en-US" sz="3200" spc="-1" strike="noStrike">
              <a:solidFill>
                <a:srgbClr val="000000"/>
              </a:solidFill>
              <a:latin typeface="Calibri"/>
            </a:endParaRPr>
          </a:p>
        </p:txBody>
      </p:sp>
      <p:pic>
        <p:nvPicPr>
          <p:cNvPr id="188" name="Picture 3" descr=""/>
          <p:cNvPicPr/>
          <p:nvPr/>
        </p:nvPicPr>
        <p:blipFill>
          <a:blip r:embed="rId1"/>
          <a:stretch/>
        </p:blipFill>
        <p:spPr>
          <a:xfrm>
            <a:off x="6786720" y="4643280"/>
            <a:ext cx="1962000" cy="1766880"/>
          </a:xfrm>
          <a:prstGeom prst="rect">
            <a:avLst/>
          </a:prstGeom>
          <a:ln w="0">
            <a:noFill/>
          </a:ln>
        </p:spPr>
      </p:pic>
      <p:sp>
        <p:nvSpPr>
          <p:cNvPr id="189"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DA0F8C0-2EC0-495C-9D0C-C5FC731E01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40920" y="101880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Una buena práctica relativa a la recepción de una solicitud de MLA para ejecución es </a:t>
            </a:r>
            <a:br>
              <a:rPr sz="4000"/>
            </a:br>
            <a:r>
              <a:rPr b="1" lang="en-US" sz="4000" spc="-1" strike="noStrike">
                <a:solidFill>
                  <a:srgbClr val="000000"/>
                </a:solidFill>
                <a:latin typeface="Calibri"/>
              </a:rPr>
              <a:t>el acuse de recibo</a:t>
            </a:r>
            <a:br>
              <a:rPr sz="4000"/>
            </a:br>
            <a:endParaRPr b="0" lang="en-US" sz="4000" spc="-1" strike="noStrike">
              <a:solidFill>
                <a:srgbClr val="000000"/>
              </a:solidFill>
              <a:latin typeface="Calibri"/>
            </a:endParaRPr>
          </a:p>
        </p:txBody>
      </p:sp>
      <p:sp>
        <p:nvSpPr>
          <p:cNvPr id="191" name=""/>
          <p:cNvSpPr txBox="1"/>
          <p:nvPr/>
        </p:nvSpPr>
        <p:spPr>
          <a:xfrm>
            <a:off x="456840" y="2385720"/>
            <a:ext cx="8348760" cy="4336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unque no lo exija la legislación nacional, una buena práctica es mantener a la autoridad solicitante informada de que usted estará a cargo de la ejecución (por ejemplo, mediante comunicación por correo electrónico, cuando sea posi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s un requisito bajo ciertas situaciones (por ejemplo, órdenes de investigación europea (EIO) dentro de la UE)</a:t>
            </a:r>
            <a:endParaRPr b="0" lang="en-US" sz="2800" spc="-1" strike="noStrike">
              <a:solidFill>
                <a:srgbClr val="000000"/>
              </a:solidFill>
              <a:latin typeface="Calibri"/>
            </a:endParaRPr>
          </a:p>
        </p:txBody>
      </p:sp>
      <p:sp>
        <p:nvSpPr>
          <p:cNvPr id="19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5449BDE-EB4D-4034-89A5-2FF409BEE7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5000" y="27432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l analizar la solicitud de MLA para ejecución:</a:t>
            </a:r>
            <a:endParaRPr b="0" lang="en-US" sz="4400" spc="-1" strike="noStrike">
              <a:solidFill>
                <a:srgbClr val="000000"/>
              </a:solidFill>
              <a:latin typeface="Calibri"/>
            </a:endParaRPr>
          </a:p>
        </p:txBody>
      </p:sp>
      <p:sp>
        <p:nvSpPr>
          <p:cNvPr id="194" name=""/>
          <p:cNvSpPr txBox="1"/>
          <p:nvPr/>
        </p:nvSpPr>
        <p:spPr>
          <a:xfrm>
            <a:off x="456840" y="1790280"/>
            <a:ext cx="8348760" cy="4930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plicación de la convención/tratado relevante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forma y contenido, adjuntos relevant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plicación de la legislación nacional</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ero tambié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lexibilidad, cuando sea posi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unicación con el remitente, si fuera necesari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formación/explicación al remitente cuando la asistencia deba denegarse</a:t>
            </a:r>
            <a:endParaRPr b="0" lang="en-US" sz="2800" spc="-1" strike="noStrike">
              <a:solidFill>
                <a:srgbClr val="000000"/>
              </a:solidFill>
              <a:latin typeface="Calibri"/>
            </a:endParaRPr>
          </a:p>
        </p:txBody>
      </p:sp>
      <p:sp>
        <p:nvSpPr>
          <p:cNvPr id="19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0F50FFD-FB99-4AEA-8276-A4DAFA1EDA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Si la ley nacional parece oponerse a la ejecución de la solicitud:</a:t>
            </a:r>
            <a:endParaRPr b="0" lang="en-US" sz="4000" spc="-1" strike="noStrike">
              <a:solidFill>
                <a:srgbClr val="000000"/>
              </a:solidFill>
              <a:latin typeface="Calibri"/>
            </a:endParaRPr>
          </a:p>
        </p:txBody>
      </p:sp>
      <p:sp>
        <p:nvSpPr>
          <p:cNvPr id="197" name=""/>
          <p:cNvSpPr txBox="1"/>
          <p:nvPr/>
        </p:nvSpPr>
        <p:spPr>
          <a:xfrm>
            <a:off x="457200" y="1509480"/>
            <a:ext cx="8229600" cy="47559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Ver las medidas que deben seguir ejecutándose</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nalizar alternativas legales, si las hay, que puedan lograr el mismo objetivo, así como medidas provisionales para salvaguardar la prueba</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unicarse con la autoridad solicitante antes de la decisión final, cuando sea posible, para discutir las alternativas o la información complementaria necesaria para permitir la ejecución</a:t>
            </a:r>
            <a:endParaRPr b="0" lang="en-US" sz="2800" spc="-1" strike="noStrike">
              <a:solidFill>
                <a:srgbClr val="000000"/>
              </a:solidFill>
              <a:latin typeface="Calibri"/>
            </a:endParaRPr>
          </a:p>
        </p:txBody>
      </p:sp>
      <p:sp>
        <p:nvSpPr>
          <p:cNvPr id="19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2DF9DA6-2D42-4F7C-B4EA-CEBFBCAC2A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0640" y="274320"/>
            <a:ext cx="8335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municación entre autoridades: ART. 27 del Convenio de Budapest</a:t>
            </a:r>
            <a:endParaRPr b="0" lang="en-US" sz="4000" spc="-1" strike="noStrike">
              <a:solidFill>
                <a:srgbClr val="000000"/>
              </a:solidFill>
              <a:latin typeface="Calibri"/>
            </a:endParaRPr>
          </a:p>
        </p:txBody>
      </p:sp>
      <p:sp>
        <p:nvSpPr>
          <p:cNvPr id="200" name=""/>
          <p:cNvSpPr txBox="1"/>
          <p:nvPr/>
        </p:nvSpPr>
        <p:spPr>
          <a:xfrm>
            <a:off x="457200" y="1600200"/>
            <a:ext cx="8229600" cy="49528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7: procedimientos pertenecientes a solicitudes de asistencia mutua en ausencia de acuerdos internacionales vigentes</a:t>
            </a:r>
            <a:r>
              <a:rPr b="0" lang="en-US" sz="3200" spc="-1" strike="noStrike">
                <a:solidFill>
                  <a:srgbClr val="000000"/>
                </a:solidFill>
                <a:latin typeface="Calibri"/>
              </a:rPr>
              <a:t>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uando no exista tratado ni acuerdo de asistencia mutua sobre la base de la legislación uniforme o recíproca vigente entre las Partes solicitante y solicitada, serán de aplicación las provisiones de los párrafos 2 al 9 de este artículo. Las provisiones de este artículo no serán de aplicación cuando exista tratado, acuerdo o legislación, a menos que las Partes implicadas acuerden aplicar cualquiera o todos los restantes en lugar de los mismos.</a:t>
            </a:r>
            <a:endParaRPr b="0" lang="en-US" sz="2400" spc="-1" strike="noStrike">
              <a:solidFill>
                <a:srgbClr val="000000"/>
              </a:solidFill>
              <a:latin typeface="Calibri"/>
            </a:endParaRPr>
          </a:p>
        </p:txBody>
      </p:sp>
      <p:sp>
        <p:nvSpPr>
          <p:cNvPr id="20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433E7E-A436-4524-9FAE-029FE56CFC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 27 del Convenio de Budapest</a:t>
            </a:r>
            <a:endParaRPr b="0" lang="en-US" sz="44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fontScale="95000"/>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 Antes de denegar o posponer la asistencia, la Parte solicitada considerará, cuando proceda tras consultar con la Parte solicitante, si la solicitud puede concederse parcialmente o someterse a dichas condiciones si se considera necesario.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La Parte solicitada informará puntualmente a la Parte solicitante del resultado de la ejecución de una solicitud de asistencia. </a:t>
            </a:r>
            <a:r>
              <a:rPr b="0" lang="en-US" sz="2400" spc="-1" strike="noStrike">
                <a:solidFill>
                  <a:srgbClr val="000000"/>
                </a:solidFill>
                <a:latin typeface="Calibri"/>
              </a:rPr>
              <a:t>Se darán los motivos de cualquier denegación o aplazamiento de la solicitud. La Parte solicitada también informará a la Parte solicitante de cualquier motivo que haga que sea imposible la ejecución de la solicitud o que probablemente la retrase significativamente.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20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C463AD-A9EE-458B-B10B-63F28A19C4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ipulaciones jurídicas nacionales</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DF926DC-7418-45A6-88AD-84A6131D8F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ipulaciones jurídicas nacionales</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197B953-8CD4-4343-BB00-FE01916FAC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ipulaciones jurídicas nacionales</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CE38FA2-2A97-4DE4-851A-1748A13FC1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34720" y="1746360"/>
            <a:ext cx="8512200" cy="49593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s estados son soberanos dentro de su territori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s convenciones internacionales están orientadas a preservar la soberanía nacional organizando modos de cooperació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Generalmente, las bases para la denegación quedan limitadas por convenci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da estado posee criterios específicos en lo que se refiere a si su legislación nacional debe aplicarse en el extranjer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s convenciones internacionales también están orientadas a preservar que los poderes y procedimientos de las autoridades nacionales se sigan en el país solicitad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5" name="PlaceHolder 1"/>
          <p:cNvSpPr>
            <a:spLocks noGrp="1"/>
          </p:cNvSpPr>
          <p:nvPr>
            <p:ph type="title"/>
          </p:nvPr>
        </p:nvSpPr>
        <p:spPr>
          <a:xfrm>
            <a:off x="314280" y="310680"/>
            <a:ext cx="8655120" cy="132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La asistencia legal mutua descansa sobre los siguientes principios principales:</a:t>
            </a:r>
            <a:endParaRPr b="0" lang="en-US" sz="4000" spc="-1" strike="noStrike">
              <a:solidFill>
                <a:srgbClr val="000000"/>
              </a:solidFill>
              <a:latin typeface="Calibri"/>
            </a:endParaRPr>
          </a:p>
        </p:txBody>
      </p:sp>
      <p:sp>
        <p:nvSpPr>
          <p:cNvPr id="6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E1871C4-8272-4CA8-B955-AF27DB79C7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Quinta parte</a:t>
            </a:r>
            <a:br>
              <a:rPr sz="3600"/>
            </a:br>
            <a:r>
              <a:rPr b="1" lang="en-US" sz="3600" spc="-1" strike="noStrike">
                <a:solidFill>
                  <a:srgbClr val="000000"/>
                </a:solidFill>
                <a:latin typeface="Calibri"/>
              </a:rPr>
              <a:t>Resumen</a:t>
            </a:r>
            <a:br>
              <a:rPr sz="3600"/>
            </a:br>
            <a:endParaRPr b="0" lang="en-US" sz="3600" spc="-1" strike="noStrike">
              <a:solidFill>
                <a:srgbClr val="000000"/>
              </a:solidFill>
              <a:latin typeface="Calibri"/>
            </a:endParaRPr>
          </a:p>
        </p:txBody>
      </p:sp>
      <p:pic>
        <p:nvPicPr>
          <p:cNvPr id="215" name="Picture 3" descr=""/>
          <p:cNvPicPr/>
          <p:nvPr/>
        </p:nvPicPr>
        <p:blipFill>
          <a:blip r:embed="rId1"/>
          <a:stretch/>
        </p:blipFill>
        <p:spPr>
          <a:xfrm>
            <a:off x="6786720" y="4643280"/>
            <a:ext cx="1962000" cy="1766880"/>
          </a:xfrm>
          <a:prstGeom prst="rect">
            <a:avLst/>
          </a:prstGeom>
          <a:ln w="0">
            <a:noFill/>
          </a:ln>
        </p:spPr>
      </p:pic>
      <p:sp>
        <p:nvSpPr>
          <p:cNvPr id="2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MS PGothic"/>
              </a:rPr>
              <a:t>!</a:t>
            </a:r>
            <a:fld id="{89E86C23-EC86-41F6-803C-B833B4F745EE}" type="slidenum">
              <a:rPr b="0" lang="en-US" sz="1200" spc="-1" strike="noStrike">
                <a:solidFill>
                  <a:srgbClr val="898989"/>
                </a:solidFill>
                <a:latin typeface="Calibri"/>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a:t>
            </a:r>
            <a:endParaRPr b="0" lang="en-US" sz="4400" spc="-1" strike="noStrike">
              <a:solidFill>
                <a:srgbClr val="000000"/>
              </a:solidFill>
              <a:latin typeface="Calibri"/>
            </a:endParaRPr>
          </a:p>
        </p:txBody>
      </p:sp>
      <p:sp>
        <p:nvSpPr>
          <p:cNvPr id="218"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MS PGothic"/>
              </a:rPr>
              <a:t>Al término de esta sesión, los participantes podrán:</a:t>
            </a:r>
            <a:endParaRPr b="0" lang="en-US" sz="3200" spc="-1" strike="noStrike">
              <a:solidFill>
                <a:srgbClr val="000000"/>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Ampliar o recordar sus conocimientos sobre los principios generales de la asistencia legal mutua</a:t>
            </a: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Contar con conocimientos técnicos para fortalecer las posibilidades de ejecución de una solicitud de MLA en la etapa de redacción</a:t>
            </a: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Adoptar una perspectiva eficiente en la recepción de una solicitud de MLA de un país extranjero</a:t>
            </a:r>
            <a:endParaRPr b="0" lang="en-US" sz="3200" spc="-1" strike="noStrike">
              <a:solidFill>
                <a:srgbClr val="000000"/>
              </a:solidFill>
              <a:latin typeface="Arial"/>
            </a:endParaRPr>
          </a:p>
        </p:txBody>
      </p:sp>
      <p:sp>
        <p:nvSpPr>
          <p:cNvPr id="2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MS PGothic"/>
              </a:rPr>
              <a:t>!</a:t>
            </a:r>
            <a:fld id="{761848CF-845C-4893-AD3C-C1C82A3B0B39}" type="slidenum">
              <a:rPr b="0" lang="en-US" sz="1200" spc="-1" strike="noStrike">
                <a:solidFill>
                  <a:srgbClr val="898989"/>
                </a:solidFill>
                <a:latin typeface="Calibri"/>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1"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MS PGothic"/>
              </a:rPr>
              <a:t>Preguntas</a:t>
            </a:r>
            <a:endParaRPr b="0" lang="en-US" sz="5400" spc="-1" strike="noStrike">
              <a:solidFill>
                <a:srgbClr val="000000"/>
              </a:solidFill>
              <a:latin typeface="Arial"/>
            </a:endParaRPr>
          </a:p>
        </p:txBody>
      </p:sp>
      <p:sp>
        <p:nvSpPr>
          <p:cNvPr id="22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MS PGothic"/>
              </a:rPr>
              <a:t>!</a:t>
            </a:r>
            <a:fld id="{8A75FC4F-F900-439E-8510-5D5D2AE6B3A8}" type="slidenum">
              <a:rPr b="0" lang="en-US" sz="1200" spc="-1" strike="noStrike">
                <a:solidFill>
                  <a:srgbClr val="898989"/>
                </a:solidFill>
                <a:latin typeface="Calibri"/>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93760" y="274320"/>
            <a:ext cx="86248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uevos retos en materia de cooperación internacional:</a:t>
            </a:r>
            <a:endParaRPr b="0" lang="en-US" sz="4400" spc="-1" strike="noStrike">
              <a:solidFill>
                <a:srgbClr val="000000"/>
              </a:solidFill>
              <a:latin typeface="Calibri"/>
            </a:endParaRPr>
          </a:p>
        </p:txBody>
      </p:sp>
      <p:sp>
        <p:nvSpPr>
          <p:cNvPr id="68" name=""/>
          <p:cNvSpPr txBox="1"/>
          <p:nvPr/>
        </p:nvSpPr>
        <p:spPr>
          <a:xfrm>
            <a:off x="457200" y="2050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o de teléfonos y ordenadores entre fronteras para cometer delito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o de aplicaciones/mensajes o correos electrónicos cifrados para comunicarse atravesando fronteras entre cómpl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uebas situadas en el extranjer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Volatilidad de los datos como parte de la prueb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uración del proceso regular de asistencia legal mutua</a:t>
            </a:r>
            <a:endParaRPr b="0" lang="en-US" sz="2800" spc="-1" strike="noStrike">
              <a:solidFill>
                <a:srgbClr val="000000"/>
              </a:solidFill>
              <a:latin typeface="Calibri"/>
            </a:endParaRPr>
          </a:p>
        </p:txBody>
      </p:sp>
      <p:sp>
        <p:nvSpPr>
          <p:cNvPr id="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FC59263-C862-405A-8CE2-DDE7C67766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25280" y="-360"/>
            <a:ext cx="8229600" cy="733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Realidad judicial comparada con la realidad digital</a:t>
            </a:r>
            <a:endParaRPr b="0" lang="en-US" sz="3000" spc="-1" strike="noStrike">
              <a:solidFill>
                <a:srgbClr val="000000"/>
              </a:solidFill>
              <a:latin typeface="Calibri"/>
            </a:endParaRPr>
          </a:p>
        </p:txBody>
      </p:sp>
      <p:graphicFrame>
        <p:nvGraphicFramePr>
          <p:cNvPr id="71" name=""/>
          <p:cNvGraphicFramePr/>
          <p:nvPr/>
        </p:nvGraphicFramePr>
        <p:xfrm>
          <a:off x="457200" y="731880"/>
          <a:ext cx="8145360" cy="6126120"/>
        </p:xfrm>
        <a:graphic>
          <a:graphicData uri="http://schemas.openxmlformats.org/drawingml/2006/table">
            <a:tbl>
              <a:tblPr/>
              <a:tblGrid>
                <a:gridCol w="3782880"/>
                <a:gridCol w="4362480"/>
              </a:tblGrid>
              <a:tr h="61268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Un momento concreto para cometer el crime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Efectos visibles del delito (víctima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Jurisdicción y soberanía regional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Pruebas normalmente visuales físicamente (registros bancarios, sangre, cuchillos, AD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empo necesario para investigar y recoger prueba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Lugar a investigar determinable fácilment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ormalmente jueces y fiscales LE especializados</a:t>
                      </a:r>
                      <a:endParaRPr b="0" lang="en-US" sz="1800" spc="-1" strike="noStrike">
                        <a:solidFill>
                          <a:srgbClr val="000000"/>
                        </a:solidFill>
                        <a:latin typeface="Arial"/>
                      </a:endParaRPr>
                    </a:p>
                  </a:txBody>
                  <a:tcPr anchor="t" marL="91440" marR="91440">
                    <a:lnL>
                      <a:noFill/>
                    </a:lnL>
                    <a:lnR>
                      <a:noFill/>
                    </a:lnR>
                    <a:lnT>
                      <a:noFill/>
                    </a:lnT>
                    <a:lnB>
                      <a:noFill/>
                    </a:lnB>
                    <a:solidFill>
                      <a:srgbClr val="b7de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egundos para intercambiar archivos y cometer el delito</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Efectos no invisibles del delito (¿víctima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fectos internacionales del delito y pruebas en cualquier luga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Pruebas electrónicas difíciles de encontrar y altamente volátiles y, en ocasiones, cifrada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lta volatilidad de las pruebas electrónica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Incertidumbre sobre la ubicación de los dato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Los fiscales y jueces formados y especializados en LE a continúan siendo necesarios debido a la constante evolución de la tecnología y a que no todos los abogados no expertos en informática</a:t>
                      </a:r>
                      <a:endParaRPr b="0" lang="en-US" sz="1800" spc="-1" strike="noStrike">
                        <a:solidFill>
                          <a:srgbClr val="000000"/>
                        </a:solidFill>
                        <a:latin typeface="Arial"/>
                      </a:endParaRPr>
                    </a:p>
                  </a:txBody>
                  <a:tcPr anchor="t" marL="91440" marR="91440">
                    <a:lnL>
                      <a:noFill/>
                    </a:lnL>
                    <a:lnR>
                      <a:noFill/>
                    </a:lnR>
                    <a:lnT>
                      <a:noFill/>
                    </a:lnT>
                    <a:lnB>
                      <a:noFill/>
                    </a:lnB>
                    <a:solidFill>
                      <a:srgbClr val="fcd5b5"/>
                    </a:solidFill>
                  </a:tcPr>
                </a:tc>
              </a:tr>
            </a:tbl>
          </a:graphicData>
        </a:graphic>
      </p:graphicFrame>
      <p:sp>
        <p:nvSpPr>
          <p:cNvPr id="7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5F8723-8E15-4E8F-A3C1-A9817E0942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Reto</a:t>
            </a:r>
            <a:endParaRPr b="0" lang="en-US" sz="3600" spc="-1" strike="noStrike">
              <a:solidFill>
                <a:srgbClr val="000000"/>
              </a:solidFill>
              <a:latin typeface="Calibri"/>
            </a:endParaRPr>
          </a:p>
        </p:txBody>
      </p:sp>
      <p:sp>
        <p:nvSpPr>
          <p:cNvPr id="74" name=""/>
          <p:cNvSpPr txBox="1"/>
          <p:nvPr/>
        </p:nvSpPr>
        <p:spPr>
          <a:xfrm>
            <a:off x="457200" y="1584000"/>
            <a:ext cx="8229600" cy="4940280"/>
          </a:xfrm>
          <a:prstGeom prst="rect">
            <a:avLst/>
          </a:prstGeom>
          <a:noFill/>
          <a:ln w="0">
            <a:noFill/>
          </a:ln>
        </p:spPr>
        <p:txBody>
          <a:bodyPr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necesidad de respetar la soberanía de otros estados y cumplir con convenios internacionales</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rente a </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necesidad de mayor eficiencia y rapidez a la hora de recoger pruebas electrónicas y de arrestar a los autores de los hechos</a:t>
            </a:r>
            <a:endParaRPr b="0" lang="en-US" sz="3200" spc="-1" strike="noStrike">
              <a:solidFill>
                <a:srgbClr val="000000"/>
              </a:solidFill>
              <a:latin typeface="Calibri"/>
            </a:endParaRPr>
          </a:p>
        </p:txBody>
      </p:sp>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05D854A-62BB-4429-9FAC-5ABD08B941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Ademas lo más</cp:lastModifiedBy>
  <cp:lastPrinted>2017-06-04T15:39:20Z</cp:lastPrinted>
  <dcterms:modified xsi:type="dcterms:W3CDTF">2019-04-09T16:46:58Z</dcterms:modified>
  <cp:revision>104</cp:revision>
  <dc:subject/>
  <dc:title>Introductory Cybercrime Training for Judges and Prosecutors</dc:title>
</cp:coreProperties>
</file>